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460-1CF0-4D7B-92BA-38568450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A1A-7D7A-468E-8548-81FA51AA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449-4806-4181-BD6F-AFEC92EE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DC6-DA82-451C-996F-297A889C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97A9-B2D8-4683-A871-426CFFAE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89BC-B4CE-4001-B89D-63C2F551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07E6-283C-4435-89E4-8FE3C2FB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E2D7-2AEB-40D0-B18F-CCB467E3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3551-3426-4C92-AAF4-7DC2FA76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EC10-8AF2-4C5A-BFD7-57E5FCED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9B96-C00F-4FB1-B640-9B649650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642-246E-468C-ADE6-D28CA58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B370-6958-48AD-8B98-F50F038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9C80-DED0-45EC-8F89-B6672B5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EDC8-0C63-4876-8C02-BF831ED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F0D7-9A4D-4E2B-B922-AAE05C05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72ED-4758-4D0D-A7EA-F644FE9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8CA7-F3BB-4498-8B63-5A390D6B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0455-B203-4702-B282-5E47CF30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93BD-0299-4115-A7BC-BA27DDE4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6B6F-7C0E-4223-A5DD-94D14102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B3CD-8FE6-4D5A-97D6-5E64421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3CA-142A-4199-9BEF-F35E014B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C53B-341E-42DE-A349-F67DFA0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38A0-408E-4BF5-AD2C-C0DAAE7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A544-11A7-4CF6-872F-6987FB0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66AE-C161-4E4D-B898-D64AEC9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1F88-941D-4D72-8FB6-B15D6573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BB42-C994-4FAC-A65F-860A941D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49B0-A849-45B8-885F-989CF222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909E-2E23-48FE-9964-B50CBE4C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6F71-110C-40D8-BD5E-6A4618F5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288E2-04AE-45F6-93F0-F66B0E39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C29-D5F7-4376-9918-41CC6008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C81AE-390D-453E-9F4E-9F1F225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60DB-F592-4DB8-ADC6-D884F3C1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6BF4-AB58-4A0B-9E27-D05C74B7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12EA-0186-4767-A1AE-E49A849C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F3FE-855A-4AE6-8EDA-4096B8B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5EB0-FDF3-4AB7-8599-CE538CE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0562-177E-444D-9958-A8E60BAF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C1CD-C657-469B-BBFB-B617EDC1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E24F-C854-4350-A5F4-94B951EF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DCB-649D-45C0-B95A-136E9CA7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1FD-8072-4503-BA0D-FC03D271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3A6-B71D-4386-A108-2ED5000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7D0-C0F0-45E4-B23A-C3AAAA1B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6B5-A0D8-418D-9EAA-2ECBF43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323-BB3F-447F-BD01-C748971AF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6335640" y="4483080"/>
            <a:ext cx="2808360" cy="2374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D191-1048-44B0-91CC-D7C83F977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0" y="285840"/>
            <a:ext cx="933480" cy="1143000"/>
            <a:chOff x="0" y="285840"/>
            <a:chExt cx="933480" cy="1143000"/>
          </a:xfrm>
        </p:grpSpPr>
        <p:grpSp>
          <p:nvGrpSpPr>
            <p:cNvPr id="50" name="Group 14"/>
            <p:cNvGrpSpPr/>
            <p:nvPr/>
          </p:nvGrpSpPr>
          <p:grpSpPr>
            <a:xfrm>
              <a:off x="142920" y="285840"/>
              <a:ext cx="714960" cy="817920"/>
              <a:chOff x="142920" y="285840"/>
              <a:chExt cx="714960" cy="817920"/>
            </a:xfrm>
          </p:grpSpPr>
          <p:sp>
            <p:nvSpPr>
              <p:cNvPr id="51" name="Text Box 6"/>
              <p:cNvSpPr/>
              <p:nvPr/>
            </p:nvSpPr>
            <p:spPr>
              <a:xfrm>
                <a:off x="142920" y="857520"/>
                <a:ext cx="714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UNE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9" descr="un_logo"/>
              <p:cNvPicPr/>
              <p:nvPr/>
            </p:nvPicPr>
            <p:blipFill>
              <a:blip r:embed="rId3">
                <a:lum bright="20000"/>
              </a:blip>
              <a:stretch/>
            </p:blipFill>
            <p:spPr>
              <a:xfrm>
                <a:off x="142920" y="285840"/>
                <a:ext cx="714960" cy="61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3" descr=""/>
            <p:cNvPicPr/>
            <p:nvPr/>
          </p:nvPicPr>
          <p:blipFill>
            <a:blip r:embed="rId4"/>
            <a:stretch/>
          </p:blipFill>
          <p:spPr>
            <a:xfrm>
              <a:off x="0" y="1071720"/>
              <a:ext cx="9334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EC12-2662-42E5-B19A-2A992A21D3A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35640" y="4483080"/>
            <a:ext cx="2808360" cy="2374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0" y="285840"/>
            <a:ext cx="933480" cy="1143000"/>
            <a:chOff x="0" y="285840"/>
            <a:chExt cx="933480" cy="1143000"/>
          </a:xfrm>
        </p:grpSpPr>
        <p:grpSp>
          <p:nvGrpSpPr>
            <p:cNvPr id="136" name="Group 14"/>
            <p:cNvGrpSpPr/>
            <p:nvPr/>
          </p:nvGrpSpPr>
          <p:grpSpPr>
            <a:xfrm>
              <a:off x="142920" y="285840"/>
              <a:ext cx="714960" cy="817920"/>
              <a:chOff x="142920" y="285840"/>
              <a:chExt cx="714960" cy="817920"/>
            </a:xfrm>
          </p:grpSpPr>
          <p:sp>
            <p:nvSpPr>
              <p:cNvPr id="137" name="Text Box 6"/>
              <p:cNvSpPr/>
              <p:nvPr/>
            </p:nvSpPr>
            <p:spPr>
              <a:xfrm>
                <a:off x="142920" y="857520"/>
                <a:ext cx="714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UNE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9" descr="un_logo"/>
              <p:cNvPicPr/>
              <p:nvPr/>
            </p:nvPicPr>
            <p:blipFill>
              <a:blip r:embed="rId3">
                <a:lum bright="20000"/>
              </a:blip>
              <a:stretch/>
            </p:blipFill>
            <p:spPr>
              <a:xfrm>
                <a:off x="142920" y="285840"/>
                <a:ext cx="714960" cy="61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9" name="Picture 3" descr=""/>
            <p:cNvPicPr/>
            <p:nvPr/>
          </p:nvPicPr>
          <p:blipFill>
            <a:blip r:embed="rId4"/>
            <a:stretch/>
          </p:blipFill>
          <p:spPr>
            <a:xfrm>
              <a:off x="0" y="1071720"/>
              <a:ext cx="9334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6786720" y="285840"/>
            <a:ext cx="2219040" cy="909000"/>
            <a:chOff x="6786720" y="285840"/>
            <a:chExt cx="2219040" cy="909000"/>
          </a:xfrm>
        </p:grpSpPr>
        <p:sp>
          <p:nvSpPr>
            <p:cNvPr id="142" name="TextBox 15"/>
            <p:cNvSpPr/>
            <p:nvPr/>
          </p:nvSpPr>
          <p:spPr>
            <a:xfrm>
              <a:off x="7000920" y="85752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Arial"/>
                </a:rPr>
                <a:t>ClimDev-Af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0" descr=""/>
            <p:cNvPicPr/>
            <p:nvPr/>
          </p:nvPicPr>
          <p:blipFill>
            <a:blip r:embed="rId5"/>
            <a:stretch/>
          </p:blipFill>
          <p:spPr>
            <a:xfrm>
              <a:off x="6786720" y="285840"/>
              <a:ext cx="22190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5355-F571-4497-93B8-97A90BB1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mdev-africa.org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840" y="2499840"/>
            <a:ext cx="850104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African Climate Policy Centre</a:t>
            </a:r>
            <a:br>
              <a:rPr sz="4000"/>
            </a:br>
            <a:br>
              <a:rPr sz="2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 Impact and Vulnerability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4714560"/>
            <a:ext cx="91440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2</a:t>
            </a:r>
            <a:r>
              <a:rPr b="0" lang="en-US" sz="2000" spc="-1" strike="noStrike" baseline="30000">
                <a:solidFill>
                  <a:srgbClr val="2592ff"/>
                </a:solidFill>
                <a:latin typeface="Arial Rounded MT Bold"/>
              </a:rPr>
              <a:t>nd</a:t>
            </a: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 Regional  Technic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The GCCA Intra-ACP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Brussels, Bel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5-7 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108000" y="5013360"/>
            <a:ext cx="1569960" cy="1671480"/>
            <a:chOff x="108000" y="5013360"/>
            <a:chExt cx="1569960" cy="1671480"/>
          </a:xfrm>
        </p:grpSpPr>
        <p:grpSp>
          <p:nvGrpSpPr>
            <p:cNvPr id="188" name="Group 13"/>
            <p:cNvGrpSpPr/>
            <p:nvPr/>
          </p:nvGrpSpPr>
          <p:grpSpPr>
            <a:xfrm>
              <a:off x="108000" y="5013360"/>
              <a:ext cx="1569960" cy="1671480"/>
              <a:chOff x="108000" y="5013360"/>
              <a:chExt cx="1569960" cy="1671480"/>
            </a:xfrm>
          </p:grpSpPr>
          <p:sp>
            <p:nvSpPr>
              <p:cNvPr id="189" name="Freeform 10"/>
              <p:cNvSpPr/>
              <p:nvPr/>
            </p:nvSpPr>
            <p:spPr>
              <a:xfrm>
                <a:off x="1461960" y="6178320"/>
                <a:ext cx="177840" cy="3106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310680"/>
                  <a:gd name="textAreaBottom" fmla="*/ 310680 h 310680"/>
                </a:gdLst>
                <a:ahLst/>
                <a:rect l="textAreaLeft" t="textAreaTop" r="textAreaRight" b="textAreaBottom"/>
                <a:pathLst>
                  <a:path w="225" h="392">
                    <a:moveTo>
                      <a:pt x="221" y="26"/>
                    </a:moveTo>
                    <a:lnTo>
                      <a:pt x="219" y="19"/>
                    </a:lnTo>
                    <a:lnTo>
                      <a:pt x="213" y="6"/>
                    </a:lnTo>
                    <a:lnTo>
                      <a:pt x="205" y="0"/>
                    </a:lnTo>
                    <a:lnTo>
                      <a:pt x="197" y="12"/>
                    </a:lnTo>
                    <a:lnTo>
                      <a:pt x="189" y="28"/>
                    </a:lnTo>
                    <a:lnTo>
                      <a:pt x="181" y="31"/>
                    </a:lnTo>
                    <a:lnTo>
                      <a:pt x="172" y="33"/>
                    </a:lnTo>
                    <a:lnTo>
                      <a:pt x="164" y="43"/>
                    </a:lnTo>
                    <a:lnTo>
                      <a:pt x="159" y="52"/>
                    </a:lnTo>
                    <a:lnTo>
                      <a:pt x="152" y="61"/>
                    </a:lnTo>
                    <a:lnTo>
                      <a:pt x="145" y="72"/>
                    </a:lnTo>
                    <a:lnTo>
                      <a:pt x="137" y="81"/>
                    </a:lnTo>
                    <a:lnTo>
                      <a:pt x="129" y="89"/>
                    </a:lnTo>
                    <a:lnTo>
                      <a:pt x="122" y="96"/>
                    </a:lnTo>
                    <a:lnTo>
                      <a:pt x="115" y="102"/>
                    </a:lnTo>
                    <a:lnTo>
                      <a:pt x="110" y="104"/>
                    </a:lnTo>
                    <a:lnTo>
                      <a:pt x="103" y="106"/>
                    </a:lnTo>
                    <a:lnTo>
                      <a:pt x="93" y="111"/>
                    </a:lnTo>
                    <a:lnTo>
                      <a:pt x="83" y="117"/>
                    </a:lnTo>
                    <a:lnTo>
                      <a:pt x="71" y="124"/>
                    </a:lnTo>
                    <a:lnTo>
                      <a:pt x="61" y="133"/>
                    </a:lnTo>
                    <a:lnTo>
                      <a:pt x="52" y="143"/>
                    </a:lnTo>
                    <a:lnTo>
                      <a:pt x="45" y="154"/>
                    </a:lnTo>
                    <a:lnTo>
                      <a:pt x="42" y="165"/>
                    </a:lnTo>
                    <a:lnTo>
                      <a:pt x="42" y="187"/>
                    </a:lnTo>
                    <a:lnTo>
                      <a:pt x="45" y="208"/>
                    </a:lnTo>
                    <a:lnTo>
                      <a:pt x="45" y="226"/>
                    </a:lnTo>
                    <a:lnTo>
                      <a:pt x="38" y="243"/>
                    </a:lnTo>
                    <a:lnTo>
                      <a:pt x="31" y="252"/>
                    </a:lnTo>
                    <a:lnTo>
                      <a:pt x="24" y="260"/>
                    </a:lnTo>
                    <a:lnTo>
                      <a:pt x="17" y="268"/>
                    </a:lnTo>
                    <a:lnTo>
                      <a:pt x="12" y="277"/>
                    </a:lnTo>
                    <a:lnTo>
                      <a:pt x="6" y="286"/>
                    </a:lnTo>
                    <a:lnTo>
                      <a:pt x="2" y="296"/>
                    </a:lnTo>
                    <a:lnTo>
                      <a:pt x="0" y="307"/>
                    </a:lnTo>
                    <a:lnTo>
                      <a:pt x="0" y="318"/>
                    </a:lnTo>
                    <a:lnTo>
                      <a:pt x="2" y="340"/>
                    </a:lnTo>
                    <a:lnTo>
                      <a:pt x="7" y="361"/>
                    </a:lnTo>
                    <a:lnTo>
                      <a:pt x="14" y="378"/>
                    </a:lnTo>
                    <a:lnTo>
                      <a:pt x="24" y="389"/>
                    </a:lnTo>
                    <a:lnTo>
                      <a:pt x="31" y="391"/>
                    </a:lnTo>
                    <a:lnTo>
                      <a:pt x="40" y="392"/>
                    </a:lnTo>
                    <a:lnTo>
                      <a:pt x="50" y="391"/>
                    </a:lnTo>
                    <a:lnTo>
                      <a:pt x="60" y="388"/>
                    </a:lnTo>
                    <a:lnTo>
                      <a:pt x="69" y="384"/>
                    </a:lnTo>
                    <a:lnTo>
                      <a:pt x="78" y="379"/>
                    </a:lnTo>
                    <a:lnTo>
                      <a:pt x="86" y="375"/>
                    </a:lnTo>
                    <a:lnTo>
                      <a:pt x="92" y="369"/>
                    </a:lnTo>
                    <a:lnTo>
                      <a:pt x="98" y="361"/>
                    </a:lnTo>
                    <a:lnTo>
                      <a:pt x="104" y="348"/>
                    </a:lnTo>
                    <a:lnTo>
                      <a:pt x="110" y="332"/>
                    </a:lnTo>
                    <a:lnTo>
                      <a:pt x="116" y="315"/>
                    </a:lnTo>
                    <a:lnTo>
                      <a:pt x="122" y="296"/>
                    </a:lnTo>
                    <a:lnTo>
                      <a:pt x="128" y="279"/>
                    </a:lnTo>
                    <a:lnTo>
                      <a:pt x="134" y="265"/>
                    </a:lnTo>
                    <a:lnTo>
                      <a:pt x="139" y="254"/>
                    </a:lnTo>
                    <a:lnTo>
                      <a:pt x="145" y="243"/>
                    </a:lnTo>
                    <a:lnTo>
                      <a:pt x="153" y="231"/>
                    </a:lnTo>
                    <a:lnTo>
                      <a:pt x="163" y="216"/>
                    </a:lnTo>
                    <a:lnTo>
                      <a:pt x="172" y="200"/>
                    </a:lnTo>
                    <a:lnTo>
                      <a:pt x="180" y="184"/>
                    </a:lnTo>
                    <a:lnTo>
                      <a:pt x="187" y="169"/>
                    </a:lnTo>
                    <a:lnTo>
                      <a:pt x="191" y="154"/>
                    </a:lnTo>
                    <a:lnTo>
                      <a:pt x="194" y="141"/>
                    </a:lnTo>
                    <a:lnTo>
                      <a:pt x="195" y="124"/>
                    </a:lnTo>
                    <a:lnTo>
                      <a:pt x="197" y="113"/>
                    </a:lnTo>
                    <a:lnTo>
                      <a:pt x="203" y="111"/>
                    </a:lnTo>
                    <a:lnTo>
                      <a:pt x="211" y="114"/>
                    </a:lnTo>
                    <a:lnTo>
                      <a:pt x="219" y="114"/>
                    </a:lnTo>
                    <a:lnTo>
                      <a:pt x="224" y="107"/>
                    </a:lnTo>
                    <a:lnTo>
                      <a:pt x="225" y="95"/>
                    </a:lnTo>
                    <a:lnTo>
                      <a:pt x="221" y="80"/>
                    </a:lnTo>
                    <a:lnTo>
                      <a:pt x="220" y="76"/>
                    </a:lnTo>
                    <a:lnTo>
                      <a:pt x="219" y="67"/>
                    </a:lnTo>
                    <a:lnTo>
                      <a:pt x="218" y="57"/>
                    </a:lnTo>
                    <a:lnTo>
                      <a:pt x="219" y="49"/>
                    </a:lnTo>
                    <a:lnTo>
                      <a:pt x="221" y="44"/>
                    </a:lnTo>
                    <a:lnTo>
                      <a:pt x="222" y="38"/>
                    </a:lnTo>
                    <a:lnTo>
                      <a:pt x="222" y="33"/>
                    </a:lnTo>
                    <a:lnTo>
                      <a:pt x="221" y="2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108000" y="5013360"/>
                <a:ext cx="1569960" cy="1671480"/>
              </a:xfrm>
              <a:custGeom>
                <a:avLst/>
                <a:gdLst>
                  <a:gd name="textAreaLeft" fmla="*/ 0 w 1569960"/>
                  <a:gd name="textAreaRight" fmla="*/ 1570320 w 1569960"/>
                  <a:gd name="textAreaTop" fmla="*/ 0 h 1671480"/>
                  <a:gd name="textAreaBottom" fmla="*/ 1671840 h 1671480"/>
                </a:gdLst>
                <a:ahLst/>
                <a:rect l="textAreaLeft" t="textAreaTop" r="textAreaRight" b="textAreaBottom"/>
                <a:pathLst>
                  <a:path w="1979" h="2106">
                    <a:moveTo>
                      <a:pt x="1008" y="2034"/>
                    </a:moveTo>
                    <a:lnTo>
                      <a:pt x="1006" y="2043"/>
                    </a:lnTo>
                    <a:lnTo>
                      <a:pt x="1005" y="2064"/>
                    </a:lnTo>
                    <a:lnTo>
                      <a:pt x="1010" y="2087"/>
                    </a:lnTo>
                    <a:lnTo>
                      <a:pt x="1025" y="2102"/>
                    </a:lnTo>
                    <a:lnTo>
                      <a:pt x="1035" y="2104"/>
                    </a:lnTo>
                    <a:lnTo>
                      <a:pt x="1046" y="2106"/>
                    </a:lnTo>
                    <a:lnTo>
                      <a:pt x="1057" y="2103"/>
                    </a:lnTo>
                    <a:lnTo>
                      <a:pt x="1069" y="2101"/>
                    </a:lnTo>
                    <a:lnTo>
                      <a:pt x="1080" y="2098"/>
                    </a:lnTo>
                    <a:lnTo>
                      <a:pt x="1093" y="2094"/>
                    </a:lnTo>
                    <a:lnTo>
                      <a:pt x="1107" y="2092"/>
                    </a:lnTo>
                    <a:lnTo>
                      <a:pt x="1122" y="2091"/>
                    </a:lnTo>
                    <a:lnTo>
                      <a:pt x="1137" y="2092"/>
                    </a:lnTo>
                    <a:lnTo>
                      <a:pt x="1150" y="2093"/>
                    </a:lnTo>
                    <a:lnTo>
                      <a:pt x="1165" y="2094"/>
                    </a:lnTo>
                    <a:lnTo>
                      <a:pt x="1179" y="2095"/>
                    </a:lnTo>
                    <a:lnTo>
                      <a:pt x="1194" y="2094"/>
                    </a:lnTo>
                    <a:lnTo>
                      <a:pt x="1209" y="2091"/>
                    </a:lnTo>
                    <a:lnTo>
                      <a:pt x="1224" y="2084"/>
                    </a:lnTo>
                    <a:lnTo>
                      <a:pt x="1241" y="2073"/>
                    </a:lnTo>
                    <a:lnTo>
                      <a:pt x="1259" y="2061"/>
                    </a:lnTo>
                    <a:lnTo>
                      <a:pt x="1275" y="2050"/>
                    </a:lnTo>
                    <a:lnTo>
                      <a:pt x="1291" y="2040"/>
                    </a:lnTo>
                    <a:lnTo>
                      <a:pt x="1306" y="2030"/>
                    </a:lnTo>
                    <a:lnTo>
                      <a:pt x="1321" y="2019"/>
                    </a:lnTo>
                    <a:lnTo>
                      <a:pt x="1335" y="2009"/>
                    </a:lnTo>
                    <a:lnTo>
                      <a:pt x="1349" y="1996"/>
                    </a:lnTo>
                    <a:lnTo>
                      <a:pt x="1361" y="1982"/>
                    </a:lnTo>
                    <a:lnTo>
                      <a:pt x="1374" y="1968"/>
                    </a:lnTo>
                    <a:lnTo>
                      <a:pt x="1384" y="1957"/>
                    </a:lnTo>
                    <a:lnTo>
                      <a:pt x="1392" y="1947"/>
                    </a:lnTo>
                    <a:lnTo>
                      <a:pt x="1400" y="1937"/>
                    </a:lnTo>
                    <a:lnTo>
                      <a:pt x="1406" y="1929"/>
                    </a:lnTo>
                    <a:lnTo>
                      <a:pt x="1410" y="1921"/>
                    </a:lnTo>
                    <a:lnTo>
                      <a:pt x="1412" y="1912"/>
                    </a:lnTo>
                    <a:lnTo>
                      <a:pt x="1413" y="1902"/>
                    </a:lnTo>
                    <a:lnTo>
                      <a:pt x="1414" y="1892"/>
                    </a:lnTo>
                    <a:lnTo>
                      <a:pt x="1417" y="1883"/>
                    </a:lnTo>
                    <a:lnTo>
                      <a:pt x="1420" y="1876"/>
                    </a:lnTo>
                    <a:lnTo>
                      <a:pt x="1426" y="1870"/>
                    </a:lnTo>
                    <a:lnTo>
                      <a:pt x="1432" y="1865"/>
                    </a:lnTo>
                    <a:lnTo>
                      <a:pt x="1440" y="1860"/>
                    </a:lnTo>
                    <a:lnTo>
                      <a:pt x="1449" y="1856"/>
                    </a:lnTo>
                    <a:lnTo>
                      <a:pt x="1459" y="1851"/>
                    </a:lnTo>
                    <a:lnTo>
                      <a:pt x="1470" y="1845"/>
                    </a:lnTo>
                    <a:lnTo>
                      <a:pt x="1481" y="1838"/>
                    </a:lnTo>
                    <a:lnTo>
                      <a:pt x="1492" y="1829"/>
                    </a:lnTo>
                    <a:lnTo>
                      <a:pt x="1502" y="1817"/>
                    </a:lnTo>
                    <a:lnTo>
                      <a:pt x="1509" y="1805"/>
                    </a:lnTo>
                    <a:lnTo>
                      <a:pt x="1513" y="1791"/>
                    </a:lnTo>
                    <a:lnTo>
                      <a:pt x="1513" y="1776"/>
                    </a:lnTo>
                    <a:lnTo>
                      <a:pt x="1510" y="1759"/>
                    </a:lnTo>
                    <a:lnTo>
                      <a:pt x="1505" y="1743"/>
                    </a:lnTo>
                    <a:lnTo>
                      <a:pt x="1504" y="1730"/>
                    </a:lnTo>
                    <a:lnTo>
                      <a:pt x="1505" y="1718"/>
                    </a:lnTo>
                    <a:lnTo>
                      <a:pt x="1510" y="1708"/>
                    </a:lnTo>
                    <a:lnTo>
                      <a:pt x="1517" y="1699"/>
                    </a:lnTo>
                    <a:lnTo>
                      <a:pt x="1525" y="1691"/>
                    </a:lnTo>
                    <a:lnTo>
                      <a:pt x="1534" y="1681"/>
                    </a:lnTo>
                    <a:lnTo>
                      <a:pt x="1545" y="1673"/>
                    </a:lnTo>
                    <a:lnTo>
                      <a:pt x="1557" y="1664"/>
                    </a:lnTo>
                    <a:lnTo>
                      <a:pt x="1575" y="1655"/>
                    </a:lnTo>
                    <a:lnTo>
                      <a:pt x="1594" y="1645"/>
                    </a:lnTo>
                    <a:lnTo>
                      <a:pt x="1614" y="1634"/>
                    </a:lnTo>
                    <a:lnTo>
                      <a:pt x="1633" y="1623"/>
                    </a:lnTo>
                    <a:lnTo>
                      <a:pt x="1649" y="1610"/>
                    </a:lnTo>
                    <a:lnTo>
                      <a:pt x="1662" y="1596"/>
                    </a:lnTo>
                    <a:lnTo>
                      <a:pt x="1670" y="1582"/>
                    </a:lnTo>
                    <a:lnTo>
                      <a:pt x="1679" y="1545"/>
                    </a:lnTo>
                    <a:lnTo>
                      <a:pt x="1687" y="1502"/>
                    </a:lnTo>
                    <a:lnTo>
                      <a:pt x="1691" y="1459"/>
                    </a:lnTo>
                    <a:lnTo>
                      <a:pt x="1687" y="1422"/>
                    </a:lnTo>
                    <a:lnTo>
                      <a:pt x="1681" y="1395"/>
                    </a:lnTo>
                    <a:lnTo>
                      <a:pt x="1677" y="1373"/>
                    </a:lnTo>
                    <a:lnTo>
                      <a:pt x="1674" y="1353"/>
                    </a:lnTo>
                    <a:lnTo>
                      <a:pt x="1670" y="1336"/>
                    </a:lnTo>
                    <a:lnTo>
                      <a:pt x="1668" y="1325"/>
                    </a:lnTo>
                    <a:lnTo>
                      <a:pt x="1664" y="1310"/>
                    </a:lnTo>
                    <a:lnTo>
                      <a:pt x="1662" y="1293"/>
                    </a:lnTo>
                    <a:lnTo>
                      <a:pt x="1661" y="1274"/>
                    </a:lnTo>
                    <a:lnTo>
                      <a:pt x="1661" y="1254"/>
                    </a:lnTo>
                    <a:lnTo>
                      <a:pt x="1664" y="1234"/>
                    </a:lnTo>
                    <a:lnTo>
                      <a:pt x="1671" y="1215"/>
                    </a:lnTo>
                    <a:lnTo>
                      <a:pt x="1682" y="1199"/>
                    </a:lnTo>
                    <a:lnTo>
                      <a:pt x="1694" y="1184"/>
                    </a:lnTo>
                    <a:lnTo>
                      <a:pt x="1707" y="1170"/>
                    </a:lnTo>
                    <a:lnTo>
                      <a:pt x="1720" y="1156"/>
                    </a:lnTo>
                    <a:lnTo>
                      <a:pt x="1732" y="1142"/>
                    </a:lnTo>
                    <a:lnTo>
                      <a:pt x="1745" y="1128"/>
                    </a:lnTo>
                    <a:lnTo>
                      <a:pt x="1757" y="1113"/>
                    </a:lnTo>
                    <a:lnTo>
                      <a:pt x="1768" y="1099"/>
                    </a:lnTo>
                    <a:lnTo>
                      <a:pt x="1778" y="1084"/>
                    </a:lnTo>
                    <a:lnTo>
                      <a:pt x="1790" y="1071"/>
                    </a:lnTo>
                    <a:lnTo>
                      <a:pt x="1803" y="1057"/>
                    </a:lnTo>
                    <a:lnTo>
                      <a:pt x="1817" y="1044"/>
                    </a:lnTo>
                    <a:lnTo>
                      <a:pt x="1831" y="1030"/>
                    </a:lnTo>
                    <a:lnTo>
                      <a:pt x="1848" y="1015"/>
                    </a:lnTo>
                    <a:lnTo>
                      <a:pt x="1863" y="998"/>
                    </a:lnTo>
                    <a:lnTo>
                      <a:pt x="1879" y="978"/>
                    </a:lnTo>
                    <a:lnTo>
                      <a:pt x="1894" y="954"/>
                    </a:lnTo>
                    <a:lnTo>
                      <a:pt x="1909" y="928"/>
                    </a:lnTo>
                    <a:lnTo>
                      <a:pt x="1924" y="900"/>
                    </a:lnTo>
                    <a:lnTo>
                      <a:pt x="1938" y="872"/>
                    </a:lnTo>
                    <a:lnTo>
                      <a:pt x="1951" y="845"/>
                    </a:lnTo>
                    <a:lnTo>
                      <a:pt x="1963" y="818"/>
                    </a:lnTo>
                    <a:lnTo>
                      <a:pt x="1971" y="795"/>
                    </a:lnTo>
                    <a:lnTo>
                      <a:pt x="1977" y="776"/>
                    </a:lnTo>
                    <a:lnTo>
                      <a:pt x="1979" y="761"/>
                    </a:lnTo>
                    <a:lnTo>
                      <a:pt x="1979" y="748"/>
                    </a:lnTo>
                    <a:lnTo>
                      <a:pt x="1977" y="738"/>
                    </a:lnTo>
                    <a:lnTo>
                      <a:pt x="1973" y="728"/>
                    </a:lnTo>
                    <a:lnTo>
                      <a:pt x="1969" y="721"/>
                    </a:lnTo>
                    <a:lnTo>
                      <a:pt x="1963" y="717"/>
                    </a:lnTo>
                    <a:lnTo>
                      <a:pt x="1955" y="715"/>
                    </a:lnTo>
                    <a:lnTo>
                      <a:pt x="1944" y="716"/>
                    </a:lnTo>
                    <a:lnTo>
                      <a:pt x="1933" y="720"/>
                    </a:lnTo>
                    <a:lnTo>
                      <a:pt x="1920" y="727"/>
                    </a:lnTo>
                    <a:lnTo>
                      <a:pt x="1908" y="734"/>
                    </a:lnTo>
                    <a:lnTo>
                      <a:pt x="1894" y="741"/>
                    </a:lnTo>
                    <a:lnTo>
                      <a:pt x="1880" y="748"/>
                    </a:lnTo>
                    <a:lnTo>
                      <a:pt x="1865" y="753"/>
                    </a:lnTo>
                    <a:lnTo>
                      <a:pt x="1849" y="756"/>
                    </a:lnTo>
                    <a:lnTo>
                      <a:pt x="1831" y="757"/>
                    </a:lnTo>
                    <a:lnTo>
                      <a:pt x="1813" y="755"/>
                    </a:lnTo>
                    <a:lnTo>
                      <a:pt x="1796" y="751"/>
                    </a:lnTo>
                    <a:lnTo>
                      <a:pt x="1783" y="749"/>
                    </a:lnTo>
                    <a:lnTo>
                      <a:pt x="1774" y="747"/>
                    </a:lnTo>
                    <a:lnTo>
                      <a:pt x="1767" y="745"/>
                    </a:lnTo>
                    <a:lnTo>
                      <a:pt x="1762" y="741"/>
                    </a:lnTo>
                    <a:lnTo>
                      <a:pt x="1760" y="736"/>
                    </a:lnTo>
                    <a:lnTo>
                      <a:pt x="1758" y="730"/>
                    </a:lnTo>
                    <a:lnTo>
                      <a:pt x="1757" y="720"/>
                    </a:lnTo>
                    <a:lnTo>
                      <a:pt x="1754" y="711"/>
                    </a:lnTo>
                    <a:lnTo>
                      <a:pt x="1753" y="703"/>
                    </a:lnTo>
                    <a:lnTo>
                      <a:pt x="1752" y="696"/>
                    </a:lnTo>
                    <a:lnTo>
                      <a:pt x="1749" y="690"/>
                    </a:lnTo>
                    <a:lnTo>
                      <a:pt x="1744" y="683"/>
                    </a:lnTo>
                    <a:lnTo>
                      <a:pt x="1736" y="675"/>
                    </a:lnTo>
                    <a:lnTo>
                      <a:pt x="1725" y="665"/>
                    </a:lnTo>
                    <a:lnTo>
                      <a:pt x="1710" y="651"/>
                    </a:lnTo>
                    <a:lnTo>
                      <a:pt x="1693" y="636"/>
                    </a:lnTo>
                    <a:lnTo>
                      <a:pt x="1677" y="622"/>
                    </a:lnTo>
                    <a:lnTo>
                      <a:pt x="1662" y="607"/>
                    </a:lnTo>
                    <a:lnTo>
                      <a:pt x="1649" y="594"/>
                    </a:lnTo>
                    <a:lnTo>
                      <a:pt x="1638" y="581"/>
                    </a:lnTo>
                    <a:lnTo>
                      <a:pt x="1629" y="569"/>
                    </a:lnTo>
                    <a:lnTo>
                      <a:pt x="1622" y="558"/>
                    </a:lnTo>
                    <a:lnTo>
                      <a:pt x="1618" y="549"/>
                    </a:lnTo>
                    <a:lnTo>
                      <a:pt x="1615" y="541"/>
                    </a:lnTo>
                    <a:lnTo>
                      <a:pt x="1608" y="532"/>
                    </a:lnTo>
                    <a:lnTo>
                      <a:pt x="1600" y="526"/>
                    </a:lnTo>
                    <a:lnTo>
                      <a:pt x="1591" y="519"/>
                    </a:lnTo>
                    <a:lnTo>
                      <a:pt x="1581" y="511"/>
                    </a:lnTo>
                    <a:lnTo>
                      <a:pt x="1572" y="501"/>
                    </a:lnTo>
                    <a:lnTo>
                      <a:pt x="1565" y="491"/>
                    </a:lnTo>
                    <a:lnTo>
                      <a:pt x="1562" y="479"/>
                    </a:lnTo>
                    <a:lnTo>
                      <a:pt x="1560" y="467"/>
                    </a:lnTo>
                    <a:lnTo>
                      <a:pt x="1557" y="455"/>
                    </a:lnTo>
                    <a:lnTo>
                      <a:pt x="1555" y="444"/>
                    </a:lnTo>
                    <a:lnTo>
                      <a:pt x="1551" y="432"/>
                    </a:lnTo>
                    <a:lnTo>
                      <a:pt x="1547" y="421"/>
                    </a:lnTo>
                    <a:lnTo>
                      <a:pt x="1541" y="410"/>
                    </a:lnTo>
                    <a:lnTo>
                      <a:pt x="1535" y="399"/>
                    </a:lnTo>
                    <a:lnTo>
                      <a:pt x="1527" y="388"/>
                    </a:lnTo>
                    <a:lnTo>
                      <a:pt x="1517" y="376"/>
                    </a:lnTo>
                    <a:lnTo>
                      <a:pt x="1504" y="358"/>
                    </a:lnTo>
                    <a:lnTo>
                      <a:pt x="1489" y="340"/>
                    </a:lnTo>
                    <a:lnTo>
                      <a:pt x="1474" y="320"/>
                    </a:lnTo>
                    <a:lnTo>
                      <a:pt x="1460" y="301"/>
                    </a:lnTo>
                    <a:lnTo>
                      <a:pt x="1448" y="284"/>
                    </a:lnTo>
                    <a:lnTo>
                      <a:pt x="1437" y="269"/>
                    </a:lnTo>
                    <a:lnTo>
                      <a:pt x="1430" y="257"/>
                    </a:lnTo>
                    <a:lnTo>
                      <a:pt x="1428" y="250"/>
                    </a:lnTo>
                    <a:lnTo>
                      <a:pt x="1430" y="248"/>
                    </a:lnTo>
                    <a:lnTo>
                      <a:pt x="1435" y="248"/>
                    </a:lnTo>
                    <a:lnTo>
                      <a:pt x="1441" y="248"/>
                    </a:lnTo>
                    <a:lnTo>
                      <a:pt x="1447" y="249"/>
                    </a:lnTo>
                    <a:lnTo>
                      <a:pt x="1453" y="249"/>
                    </a:lnTo>
                    <a:lnTo>
                      <a:pt x="1458" y="247"/>
                    </a:lnTo>
                    <a:lnTo>
                      <a:pt x="1459" y="240"/>
                    </a:lnTo>
                    <a:lnTo>
                      <a:pt x="1459" y="227"/>
                    </a:lnTo>
                    <a:lnTo>
                      <a:pt x="1457" y="216"/>
                    </a:lnTo>
                    <a:lnTo>
                      <a:pt x="1456" y="205"/>
                    </a:lnTo>
                    <a:lnTo>
                      <a:pt x="1453" y="196"/>
                    </a:lnTo>
                    <a:lnTo>
                      <a:pt x="1450" y="182"/>
                    </a:lnTo>
                    <a:lnTo>
                      <a:pt x="1444" y="168"/>
                    </a:lnTo>
                    <a:lnTo>
                      <a:pt x="1440" y="158"/>
                    </a:lnTo>
                    <a:lnTo>
                      <a:pt x="1437" y="153"/>
                    </a:lnTo>
                    <a:lnTo>
                      <a:pt x="1437" y="154"/>
                    </a:lnTo>
                    <a:lnTo>
                      <a:pt x="1435" y="157"/>
                    </a:lnTo>
                    <a:lnTo>
                      <a:pt x="1433" y="160"/>
                    </a:lnTo>
                    <a:lnTo>
                      <a:pt x="1428" y="163"/>
                    </a:lnTo>
                    <a:lnTo>
                      <a:pt x="1422" y="166"/>
                    </a:lnTo>
                    <a:lnTo>
                      <a:pt x="1415" y="168"/>
                    </a:lnTo>
                    <a:lnTo>
                      <a:pt x="1406" y="168"/>
                    </a:lnTo>
                    <a:lnTo>
                      <a:pt x="1396" y="166"/>
                    </a:lnTo>
                    <a:lnTo>
                      <a:pt x="1381" y="161"/>
                    </a:lnTo>
                    <a:lnTo>
                      <a:pt x="1367" y="159"/>
                    </a:lnTo>
                    <a:lnTo>
                      <a:pt x="1354" y="157"/>
                    </a:lnTo>
                    <a:lnTo>
                      <a:pt x="1342" y="156"/>
                    </a:lnTo>
                    <a:lnTo>
                      <a:pt x="1331" y="156"/>
                    </a:lnTo>
                    <a:lnTo>
                      <a:pt x="1321" y="157"/>
                    </a:lnTo>
                    <a:lnTo>
                      <a:pt x="1312" y="158"/>
                    </a:lnTo>
                    <a:lnTo>
                      <a:pt x="1305" y="160"/>
                    </a:lnTo>
                    <a:lnTo>
                      <a:pt x="1298" y="163"/>
                    </a:lnTo>
                    <a:lnTo>
                      <a:pt x="1291" y="164"/>
                    </a:lnTo>
                    <a:lnTo>
                      <a:pt x="1283" y="164"/>
                    </a:lnTo>
                    <a:lnTo>
                      <a:pt x="1274" y="164"/>
                    </a:lnTo>
                    <a:lnTo>
                      <a:pt x="1265" y="163"/>
                    </a:lnTo>
                    <a:lnTo>
                      <a:pt x="1254" y="161"/>
                    </a:lnTo>
                    <a:lnTo>
                      <a:pt x="1243" y="158"/>
                    </a:lnTo>
                    <a:lnTo>
                      <a:pt x="1230" y="154"/>
                    </a:lnTo>
                    <a:lnTo>
                      <a:pt x="1216" y="150"/>
                    </a:lnTo>
                    <a:lnTo>
                      <a:pt x="1202" y="146"/>
                    </a:lnTo>
                    <a:lnTo>
                      <a:pt x="1188" y="143"/>
                    </a:lnTo>
                    <a:lnTo>
                      <a:pt x="1173" y="138"/>
                    </a:lnTo>
                    <a:lnTo>
                      <a:pt x="1160" y="134"/>
                    </a:lnTo>
                    <a:lnTo>
                      <a:pt x="1146" y="128"/>
                    </a:lnTo>
                    <a:lnTo>
                      <a:pt x="1133" y="122"/>
                    </a:lnTo>
                    <a:lnTo>
                      <a:pt x="1122" y="114"/>
                    </a:lnTo>
                    <a:lnTo>
                      <a:pt x="1111" y="108"/>
                    </a:lnTo>
                    <a:lnTo>
                      <a:pt x="1101" y="107"/>
                    </a:lnTo>
                    <a:lnTo>
                      <a:pt x="1090" y="109"/>
                    </a:lnTo>
                    <a:lnTo>
                      <a:pt x="1082" y="114"/>
                    </a:lnTo>
                    <a:lnTo>
                      <a:pt x="1074" y="120"/>
                    </a:lnTo>
                    <a:lnTo>
                      <a:pt x="1069" y="126"/>
                    </a:lnTo>
                    <a:lnTo>
                      <a:pt x="1065" y="130"/>
                    </a:lnTo>
                    <a:lnTo>
                      <a:pt x="1064" y="131"/>
                    </a:lnTo>
                    <a:lnTo>
                      <a:pt x="1067" y="139"/>
                    </a:lnTo>
                    <a:lnTo>
                      <a:pt x="1072" y="157"/>
                    </a:lnTo>
                    <a:lnTo>
                      <a:pt x="1071" y="175"/>
                    </a:lnTo>
                    <a:lnTo>
                      <a:pt x="1058" y="183"/>
                    </a:lnTo>
                    <a:lnTo>
                      <a:pt x="1048" y="182"/>
                    </a:lnTo>
                    <a:lnTo>
                      <a:pt x="1036" y="180"/>
                    </a:lnTo>
                    <a:lnTo>
                      <a:pt x="1025" y="175"/>
                    </a:lnTo>
                    <a:lnTo>
                      <a:pt x="1013" y="171"/>
                    </a:lnTo>
                    <a:lnTo>
                      <a:pt x="1002" y="165"/>
                    </a:lnTo>
                    <a:lnTo>
                      <a:pt x="990" y="159"/>
                    </a:lnTo>
                    <a:lnTo>
                      <a:pt x="979" y="153"/>
                    </a:lnTo>
                    <a:lnTo>
                      <a:pt x="967" y="149"/>
                    </a:lnTo>
                    <a:lnTo>
                      <a:pt x="956" y="144"/>
                    </a:lnTo>
                    <a:lnTo>
                      <a:pt x="942" y="137"/>
                    </a:lnTo>
                    <a:lnTo>
                      <a:pt x="927" y="131"/>
                    </a:lnTo>
                    <a:lnTo>
                      <a:pt x="912" y="124"/>
                    </a:lnTo>
                    <a:lnTo>
                      <a:pt x="896" y="120"/>
                    </a:lnTo>
                    <a:lnTo>
                      <a:pt x="880" y="115"/>
                    </a:lnTo>
                    <a:lnTo>
                      <a:pt x="862" y="113"/>
                    </a:lnTo>
                    <a:lnTo>
                      <a:pt x="847" y="114"/>
                    </a:lnTo>
                    <a:lnTo>
                      <a:pt x="833" y="114"/>
                    </a:lnTo>
                    <a:lnTo>
                      <a:pt x="824" y="111"/>
                    </a:lnTo>
                    <a:lnTo>
                      <a:pt x="817" y="105"/>
                    </a:lnTo>
                    <a:lnTo>
                      <a:pt x="814" y="97"/>
                    </a:lnTo>
                    <a:lnTo>
                      <a:pt x="814" y="88"/>
                    </a:lnTo>
                    <a:lnTo>
                      <a:pt x="815" y="78"/>
                    </a:lnTo>
                    <a:lnTo>
                      <a:pt x="819" y="69"/>
                    </a:lnTo>
                    <a:lnTo>
                      <a:pt x="824" y="62"/>
                    </a:lnTo>
                    <a:lnTo>
                      <a:pt x="830" y="55"/>
                    </a:lnTo>
                    <a:lnTo>
                      <a:pt x="833" y="46"/>
                    </a:lnTo>
                    <a:lnTo>
                      <a:pt x="835" y="36"/>
                    </a:lnTo>
                    <a:lnTo>
                      <a:pt x="833" y="25"/>
                    </a:lnTo>
                    <a:lnTo>
                      <a:pt x="828" y="15"/>
                    </a:lnTo>
                    <a:lnTo>
                      <a:pt x="820" y="7"/>
                    </a:lnTo>
                    <a:lnTo>
                      <a:pt x="807" y="2"/>
                    </a:lnTo>
                    <a:lnTo>
                      <a:pt x="791" y="0"/>
                    </a:lnTo>
                    <a:lnTo>
                      <a:pt x="786" y="0"/>
                    </a:lnTo>
                    <a:lnTo>
                      <a:pt x="780" y="0"/>
                    </a:lnTo>
                    <a:lnTo>
                      <a:pt x="775" y="0"/>
                    </a:lnTo>
                    <a:lnTo>
                      <a:pt x="769" y="0"/>
                    </a:lnTo>
                    <a:lnTo>
                      <a:pt x="762" y="0"/>
                    </a:lnTo>
                    <a:lnTo>
                      <a:pt x="755" y="0"/>
                    </a:lnTo>
                    <a:lnTo>
                      <a:pt x="747" y="1"/>
                    </a:lnTo>
                    <a:lnTo>
                      <a:pt x="739" y="1"/>
                    </a:lnTo>
                    <a:lnTo>
                      <a:pt x="725" y="2"/>
                    </a:lnTo>
                    <a:lnTo>
                      <a:pt x="711" y="3"/>
                    </a:lnTo>
                    <a:lnTo>
                      <a:pt x="696" y="5"/>
                    </a:lnTo>
                    <a:lnTo>
                      <a:pt x="680" y="6"/>
                    </a:lnTo>
                    <a:lnTo>
                      <a:pt x="665" y="7"/>
                    </a:lnTo>
                    <a:lnTo>
                      <a:pt x="650" y="8"/>
                    </a:lnTo>
                    <a:lnTo>
                      <a:pt x="635" y="10"/>
                    </a:lnTo>
                    <a:lnTo>
                      <a:pt x="620" y="12"/>
                    </a:lnTo>
                    <a:lnTo>
                      <a:pt x="606" y="14"/>
                    </a:lnTo>
                    <a:lnTo>
                      <a:pt x="594" y="15"/>
                    </a:lnTo>
                    <a:lnTo>
                      <a:pt x="581" y="17"/>
                    </a:lnTo>
                    <a:lnTo>
                      <a:pt x="570" y="20"/>
                    </a:lnTo>
                    <a:lnTo>
                      <a:pt x="560" y="22"/>
                    </a:lnTo>
                    <a:lnTo>
                      <a:pt x="551" y="24"/>
                    </a:lnTo>
                    <a:lnTo>
                      <a:pt x="544" y="27"/>
                    </a:lnTo>
                    <a:lnTo>
                      <a:pt x="540" y="29"/>
                    </a:lnTo>
                    <a:lnTo>
                      <a:pt x="530" y="35"/>
                    </a:lnTo>
                    <a:lnTo>
                      <a:pt x="522" y="40"/>
                    </a:lnTo>
                    <a:lnTo>
                      <a:pt x="515" y="45"/>
                    </a:lnTo>
                    <a:lnTo>
                      <a:pt x="509" y="48"/>
                    </a:lnTo>
                    <a:lnTo>
                      <a:pt x="502" y="51"/>
                    </a:lnTo>
                    <a:lnTo>
                      <a:pt x="492" y="53"/>
                    </a:lnTo>
                    <a:lnTo>
                      <a:pt x="481" y="53"/>
                    </a:lnTo>
                    <a:lnTo>
                      <a:pt x="466" y="52"/>
                    </a:lnTo>
                    <a:lnTo>
                      <a:pt x="450" y="50"/>
                    </a:lnTo>
                    <a:lnTo>
                      <a:pt x="437" y="47"/>
                    </a:lnTo>
                    <a:lnTo>
                      <a:pt x="427" y="45"/>
                    </a:lnTo>
                    <a:lnTo>
                      <a:pt x="417" y="44"/>
                    </a:lnTo>
                    <a:lnTo>
                      <a:pt x="411" y="44"/>
                    </a:lnTo>
                    <a:lnTo>
                      <a:pt x="404" y="46"/>
                    </a:lnTo>
                    <a:lnTo>
                      <a:pt x="397" y="50"/>
                    </a:lnTo>
                    <a:lnTo>
                      <a:pt x="391" y="56"/>
                    </a:lnTo>
                    <a:lnTo>
                      <a:pt x="382" y="66"/>
                    </a:lnTo>
                    <a:lnTo>
                      <a:pt x="367" y="78"/>
                    </a:lnTo>
                    <a:lnTo>
                      <a:pt x="348" y="91"/>
                    </a:lnTo>
                    <a:lnTo>
                      <a:pt x="330" y="107"/>
                    </a:lnTo>
                    <a:lnTo>
                      <a:pt x="311" y="123"/>
                    </a:lnTo>
                    <a:lnTo>
                      <a:pt x="294" y="143"/>
                    </a:lnTo>
                    <a:lnTo>
                      <a:pt x="283" y="163"/>
                    </a:lnTo>
                    <a:lnTo>
                      <a:pt x="277" y="183"/>
                    </a:lnTo>
                    <a:lnTo>
                      <a:pt x="277" y="186"/>
                    </a:lnTo>
                    <a:lnTo>
                      <a:pt x="273" y="192"/>
                    </a:lnTo>
                    <a:lnTo>
                      <a:pt x="264" y="202"/>
                    </a:lnTo>
                    <a:lnTo>
                      <a:pt x="248" y="211"/>
                    </a:lnTo>
                    <a:lnTo>
                      <a:pt x="239" y="216"/>
                    </a:lnTo>
                    <a:lnTo>
                      <a:pt x="231" y="220"/>
                    </a:lnTo>
                    <a:lnTo>
                      <a:pt x="225" y="225"/>
                    </a:lnTo>
                    <a:lnTo>
                      <a:pt x="219" y="229"/>
                    </a:lnTo>
                    <a:lnTo>
                      <a:pt x="213" y="234"/>
                    </a:lnTo>
                    <a:lnTo>
                      <a:pt x="208" y="236"/>
                    </a:lnTo>
                    <a:lnTo>
                      <a:pt x="201" y="239"/>
                    </a:lnTo>
                    <a:lnTo>
                      <a:pt x="192" y="240"/>
                    </a:lnTo>
                    <a:lnTo>
                      <a:pt x="182" y="240"/>
                    </a:lnTo>
                    <a:lnTo>
                      <a:pt x="177" y="242"/>
                    </a:lnTo>
                    <a:lnTo>
                      <a:pt x="172" y="244"/>
                    </a:lnTo>
                    <a:lnTo>
                      <a:pt x="170" y="248"/>
                    </a:lnTo>
                    <a:lnTo>
                      <a:pt x="166" y="254"/>
                    </a:lnTo>
                    <a:lnTo>
                      <a:pt x="163" y="259"/>
                    </a:lnTo>
                    <a:lnTo>
                      <a:pt x="158" y="266"/>
                    </a:lnTo>
                    <a:lnTo>
                      <a:pt x="151" y="274"/>
                    </a:lnTo>
                    <a:lnTo>
                      <a:pt x="143" y="285"/>
                    </a:lnTo>
                    <a:lnTo>
                      <a:pt x="135" y="296"/>
                    </a:lnTo>
                    <a:lnTo>
                      <a:pt x="128" y="309"/>
                    </a:lnTo>
                    <a:lnTo>
                      <a:pt x="120" y="324"/>
                    </a:lnTo>
                    <a:lnTo>
                      <a:pt x="110" y="338"/>
                    </a:lnTo>
                    <a:lnTo>
                      <a:pt x="99" y="352"/>
                    </a:lnTo>
                    <a:lnTo>
                      <a:pt x="87" y="365"/>
                    </a:lnTo>
                    <a:lnTo>
                      <a:pt x="71" y="377"/>
                    </a:lnTo>
                    <a:lnTo>
                      <a:pt x="57" y="388"/>
                    </a:lnTo>
                    <a:lnTo>
                      <a:pt x="46" y="401"/>
                    </a:lnTo>
                    <a:lnTo>
                      <a:pt x="41" y="414"/>
                    </a:lnTo>
                    <a:lnTo>
                      <a:pt x="38" y="428"/>
                    </a:lnTo>
                    <a:lnTo>
                      <a:pt x="37" y="440"/>
                    </a:lnTo>
                    <a:lnTo>
                      <a:pt x="38" y="452"/>
                    </a:lnTo>
                    <a:lnTo>
                      <a:pt x="41" y="461"/>
                    </a:lnTo>
                    <a:lnTo>
                      <a:pt x="43" y="469"/>
                    </a:lnTo>
                    <a:lnTo>
                      <a:pt x="46" y="489"/>
                    </a:lnTo>
                    <a:lnTo>
                      <a:pt x="46" y="520"/>
                    </a:lnTo>
                    <a:lnTo>
                      <a:pt x="41" y="556"/>
                    </a:lnTo>
                    <a:lnTo>
                      <a:pt x="26" y="589"/>
                    </a:lnTo>
                    <a:lnTo>
                      <a:pt x="10" y="615"/>
                    </a:lnTo>
                    <a:lnTo>
                      <a:pt x="3" y="634"/>
                    </a:lnTo>
                    <a:lnTo>
                      <a:pt x="0" y="652"/>
                    </a:lnTo>
                    <a:lnTo>
                      <a:pt x="3" y="674"/>
                    </a:lnTo>
                    <a:lnTo>
                      <a:pt x="5" y="686"/>
                    </a:lnTo>
                    <a:lnTo>
                      <a:pt x="8" y="695"/>
                    </a:lnTo>
                    <a:lnTo>
                      <a:pt x="13" y="703"/>
                    </a:lnTo>
                    <a:lnTo>
                      <a:pt x="18" y="710"/>
                    </a:lnTo>
                    <a:lnTo>
                      <a:pt x="22" y="715"/>
                    </a:lnTo>
                    <a:lnTo>
                      <a:pt x="28" y="720"/>
                    </a:lnTo>
                    <a:lnTo>
                      <a:pt x="33" y="726"/>
                    </a:lnTo>
                    <a:lnTo>
                      <a:pt x="37" y="732"/>
                    </a:lnTo>
                    <a:lnTo>
                      <a:pt x="43" y="746"/>
                    </a:lnTo>
                    <a:lnTo>
                      <a:pt x="48" y="758"/>
                    </a:lnTo>
                    <a:lnTo>
                      <a:pt x="53" y="770"/>
                    </a:lnTo>
                    <a:lnTo>
                      <a:pt x="65" y="777"/>
                    </a:lnTo>
                    <a:lnTo>
                      <a:pt x="79" y="784"/>
                    </a:lnTo>
                    <a:lnTo>
                      <a:pt x="87" y="795"/>
                    </a:lnTo>
                    <a:lnTo>
                      <a:pt x="90" y="809"/>
                    </a:lnTo>
                    <a:lnTo>
                      <a:pt x="88" y="823"/>
                    </a:lnTo>
                    <a:lnTo>
                      <a:pt x="87" y="830"/>
                    </a:lnTo>
                    <a:lnTo>
                      <a:pt x="87" y="836"/>
                    </a:lnTo>
                    <a:lnTo>
                      <a:pt x="89" y="842"/>
                    </a:lnTo>
                    <a:lnTo>
                      <a:pt x="92" y="849"/>
                    </a:lnTo>
                    <a:lnTo>
                      <a:pt x="98" y="856"/>
                    </a:lnTo>
                    <a:lnTo>
                      <a:pt x="106" y="864"/>
                    </a:lnTo>
                    <a:lnTo>
                      <a:pt x="117" y="872"/>
                    </a:lnTo>
                    <a:lnTo>
                      <a:pt x="128" y="881"/>
                    </a:lnTo>
                    <a:lnTo>
                      <a:pt x="141" y="889"/>
                    </a:lnTo>
                    <a:lnTo>
                      <a:pt x="151" y="897"/>
                    </a:lnTo>
                    <a:lnTo>
                      <a:pt x="160" y="904"/>
                    </a:lnTo>
                    <a:lnTo>
                      <a:pt x="170" y="912"/>
                    </a:lnTo>
                    <a:lnTo>
                      <a:pt x="178" y="919"/>
                    </a:lnTo>
                    <a:lnTo>
                      <a:pt x="186" y="927"/>
                    </a:lnTo>
                    <a:lnTo>
                      <a:pt x="194" y="935"/>
                    </a:lnTo>
                    <a:lnTo>
                      <a:pt x="202" y="943"/>
                    </a:lnTo>
                    <a:lnTo>
                      <a:pt x="212" y="950"/>
                    </a:lnTo>
                    <a:lnTo>
                      <a:pt x="225" y="952"/>
                    </a:lnTo>
                    <a:lnTo>
                      <a:pt x="241" y="953"/>
                    </a:lnTo>
                    <a:lnTo>
                      <a:pt x="257" y="951"/>
                    </a:lnTo>
                    <a:lnTo>
                      <a:pt x="272" y="947"/>
                    </a:lnTo>
                    <a:lnTo>
                      <a:pt x="288" y="944"/>
                    </a:lnTo>
                    <a:lnTo>
                      <a:pt x="301" y="939"/>
                    </a:lnTo>
                    <a:lnTo>
                      <a:pt x="311" y="937"/>
                    </a:lnTo>
                    <a:lnTo>
                      <a:pt x="320" y="935"/>
                    </a:lnTo>
                    <a:lnTo>
                      <a:pt x="329" y="932"/>
                    </a:lnTo>
                    <a:lnTo>
                      <a:pt x="337" y="931"/>
                    </a:lnTo>
                    <a:lnTo>
                      <a:pt x="346" y="930"/>
                    </a:lnTo>
                    <a:lnTo>
                      <a:pt x="354" y="930"/>
                    </a:lnTo>
                    <a:lnTo>
                      <a:pt x="362" y="931"/>
                    </a:lnTo>
                    <a:lnTo>
                      <a:pt x="371" y="934"/>
                    </a:lnTo>
                    <a:lnTo>
                      <a:pt x="379" y="937"/>
                    </a:lnTo>
                    <a:lnTo>
                      <a:pt x="389" y="940"/>
                    </a:lnTo>
                    <a:lnTo>
                      <a:pt x="398" y="940"/>
                    </a:lnTo>
                    <a:lnTo>
                      <a:pt x="408" y="939"/>
                    </a:lnTo>
                    <a:lnTo>
                      <a:pt x="419" y="937"/>
                    </a:lnTo>
                    <a:lnTo>
                      <a:pt x="429" y="934"/>
                    </a:lnTo>
                    <a:lnTo>
                      <a:pt x="441" y="929"/>
                    </a:lnTo>
                    <a:lnTo>
                      <a:pt x="453" y="924"/>
                    </a:lnTo>
                    <a:lnTo>
                      <a:pt x="466" y="920"/>
                    </a:lnTo>
                    <a:lnTo>
                      <a:pt x="480" y="915"/>
                    </a:lnTo>
                    <a:lnTo>
                      <a:pt x="496" y="909"/>
                    </a:lnTo>
                    <a:lnTo>
                      <a:pt x="513" y="905"/>
                    </a:lnTo>
                    <a:lnTo>
                      <a:pt x="530" y="900"/>
                    </a:lnTo>
                    <a:lnTo>
                      <a:pt x="548" y="897"/>
                    </a:lnTo>
                    <a:lnTo>
                      <a:pt x="565" y="894"/>
                    </a:lnTo>
                    <a:lnTo>
                      <a:pt x="579" y="895"/>
                    </a:lnTo>
                    <a:lnTo>
                      <a:pt x="591" y="898"/>
                    </a:lnTo>
                    <a:lnTo>
                      <a:pt x="601" y="902"/>
                    </a:lnTo>
                    <a:lnTo>
                      <a:pt x="609" y="909"/>
                    </a:lnTo>
                    <a:lnTo>
                      <a:pt x="615" y="917"/>
                    </a:lnTo>
                    <a:lnTo>
                      <a:pt x="620" y="925"/>
                    </a:lnTo>
                    <a:lnTo>
                      <a:pt x="626" y="934"/>
                    </a:lnTo>
                    <a:lnTo>
                      <a:pt x="632" y="942"/>
                    </a:lnTo>
                    <a:lnTo>
                      <a:pt x="639" y="949"/>
                    </a:lnTo>
                    <a:lnTo>
                      <a:pt x="648" y="954"/>
                    </a:lnTo>
                    <a:lnTo>
                      <a:pt x="659" y="957"/>
                    </a:lnTo>
                    <a:lnTo>
                      <a:pt x="672" y="958"/>
                    </a:lnTo>
                    <a:lnTo>
                      <a:pt x="686" y="957"/>
                    </a:lnTo>
                    <a:lnTo>
                      <a:pt x="699" y="955"/>
                    </a:lnTo>
                    <a:lnTo>
                      <a:pt x="712" y="953"/>
                    </a:lnTo>
                    <a:lnTo>
                      <a:pt x="725" y="953"/>
                    </a:lnTo>
                    <a:lnTo>
                      <a:pt x="737" y="955"/>
                    </a:lnTo>
                    <a:lnTo>
                      <a:pt x="746" y="960"/>
                    </a:lnTo>
                    <a:lnTo>
                      <a:pt x="757" y="978"/>
                    </a:lnTo>
                    <a:lnTo>
                      <a:pt x="761" y="1004"/>
                    </a:lnTo>
                    <a:lnTo>
                      <a:pt x="759" y="1035"/>
                    </a:lnTo>
                    <a:lnTo>
                      <a:pt x="752" y="1067"/>
                    </a:lnTo>
                    <a:lnTo>
                      <a:pt x="744" y="1098"/>
                    </a:lnTo>
                    <a:lnTo>
                      <a:pt x="739" y="1121"/>
                    </a:lnTo>
                    <a:lnTo>
                      <a:pt x="742" y="1142"/>
                    </a:lnTo>
                    <a:lnTo>
                      <a:pt x="757" y="1159"/>
                    </a:lnTo>
                    <a:lnTo>
                      <a:pt x="769" y="1169"/>
                    </a:lnTo>
                    <a:lnTo>
                      <a:pt x="780" y="1178"/>
                    </a:lnTo>
                    <a:lnTo>
                      <a:pt x="793" y="1189"/>
                    </a:lnTo>
                    <a:lnTo>
                      <a:pt x="805" y="1200"/>
                    </a:lnTo>
                    <a:lnTo>
                      <a:pt x="816" y="1211"/>
                    </a:lnTo>
                    <a:lnTo>
                      <a:pt x="825" y="1223"/>
                    </a:lnTo>
                    <a:lnTo>
                      <a:pt x="832" y="1233"/>
                    </a:lnTo>
                    <a:lnTo>
                      <a:pt x="836" y="1245"/>
                    </a:lnTo>
                    <a:lnTo>
                      <a:pt x="839" y="1256"/>
                    </a:lnTo>
                    <a:lnTo>
                      <a:pt x="845" y="1271"/>
                    </a:lnTo>
                    <a:lnTo>
                      <a:pt x="851" y="1286"/>
                    </a:lnTo>
                    <a:lnTo>
                      <a:pt x="858" y="1302"/>
                    </a:lnTo>
                    <a:lnTo>
                      <a:pt x="865" y="1320"/>
                    </a:lnTo>
                    <a:lnTo>
                      <a:pt x="870" y="1336"/>
                    </a:lnTo>
                    <a:lnTo>
                      <a:pt x="875" y="1351"/>
                    </a:lnTo>
                    <a:lnTo>
                      <a:pt x="876" y="1365"/>
                    </a:lnTo>
                    <a:lnTo>
                      <a:pt x="878" y="1390"/>
                    </a:lnTo>
                    <a:lnTo>
                      <a:pt x="882" y="1413"/>
                    </a:lnTo>
                    <a:lnTo>
                      <a:pt x="885" y="1435"/>
                    </a:lnTo>
                    <a:lnTo>
                      <a:pt x="888" y="1457"/>
                    </a:lnTo>
                    <a:lnTo>
                      <a:pt x="885" y="1467"/>
                    </a:lnTo>
                    <a:lnTo>
                      <a:pt x="880" y="1477"/>
                    </a:lnTo>
                    <a:lnTo>
                      <a:pt x="872" y="1488"/>
                    </a:lnTo>
                    <a:lnTo>
                      <a:pt x="862" y="1501"/>
                    </a:lnTo>
                    <a:lnTo>
                      <a:pt x="852" y="1514"/>
                    </a:lnTo>
                    <a:lnTo>
                      <a:pt x="844" y="1531"/>
                    </a:lnTo>
                    <a:lnTo>
                      <a:pt x="838" y="1549"/>
                    </a:lnTo>
                    <a:lnTo>
                      <a:pt x="836" y="1571"/>
                    </a:lnTo>
                    <a:lnTo>
                      <a:pt x="838" y="1610"/>
                    </a:lnTo>
                    <a:lnTo>
                      <a:pt x="844" y="1638"/>
                    </a:lnTo>
                    <a:lnTo>
                      <a:pt x="853" y="1661"/>
                    </a:lnTo>
                    <a:lnTo>
                      <a:pt x="865" y="1685"/>
                    </a:lnTo>
                    <a:lnTo>
                      <a:pt x="872" y="1699"/>
                    </a:lnTo>
                    <a:lnTo>
                      <a:pt x="880" y="1714"/>
                    </a:lnTo>
                    <a:lnTo>
                      <a:pt x="887" y="1729"/>
                    </a:lnTo>
                    <a:lnTo>
                      <a:pt x="895" y="1744"/>
                    </a:lnTo>
                    <a:lnTo>
                      <a:pt x="901" y="1760"/>
                    </a:lnTo>
                    <a:lnTo>
                      <a:pt x="907" y="1774"/>
                    </a:lnTo>
                    <a:lnTo>
                      <a:pt x="912" y="1788"/>
                    </a:lnTo>
                    <a:lnTo>
                      <a:pt x="915" y="1799"/>
                    </a:lnTo>
                    <a:lnTo>
                      <a:pt x="916" y="1812"/>
                    </a:lnTo>
                    <a:lnTo>
                      <a:pt x="919" y="1829"/>
                    </a:lnTo>
                    <a:lnTo>
                      <a:pt x="920" y="1847"/>
                    </a:lnTo>
                    <a:lnTo>
                      <a:pt x="922" y="1867"/>
                    </a:lnTo>
                    <a:lnTo>
                      <a:pt x="926" y="1888"/>
                    </a:lnTo>
                    <a:lnTo>
                      <a:pt x="930" y="1906"/>
                    </a:lnTo>
                    <a:lnTo>
                      <a:pt x="938" y="1924"/>
                    </a:lnTo>
                    <a:lnTo>
                      <a:pt x="950" y="1936"/>
                    </a:lnTo>
                    <a:lnTo>
                      <a:pt x="963" y="1948"/>
                    </a:lnTo>
                    <a:lnTo>
                      <a:pt x="973" y="1962"/>
                    </a:lnTo>
                    <a:lnTo>
                      <a:pt x="982" y="1975"/>
                    </a:lnTo>
                    <a:lnTo>
                      <a:pt x="989" y="1989"/>
                    </a:lnTo>
                    <a:lnTo>
                      <a:pt x="996" y="2003"/>
                    </a:lnTo>
                    <a:lnTo>
                      <a:pt x="1001" y="2016"/>
                    </a:lnTo>
                    <a:lnTo>
                      <a:pt x="1005" y="2026"/>
                    </a:lnTo>
                    <a:lnTo>
                      <a:pt x="1008" y="203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16"/>
            <p:cNvSpPr/>
            <p:nvPr/>
          </p:nvSpPr>
          <p:spPr>
            <a:xfrm>
              <a:off x="252360" y="5155920"/>
              <a:ext cx="11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ab606"/>
                  </a:solidFill>
                  <a:latin typeface="Arial Black"/>
                </a:rPr>
                <a:t>Climate Change 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 Narrow"/>
                </a:rPr>
                <a:t>Meets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15" descr="C:\Users\cmuraya\Documents\Stock photos\Logos\ClimDev-Africa logo with title 2014.jpg"/>
          <p:cNvPicPr/>
          <p:nvPr/>
        </p:nvPicPr>
        <p:blipFill>
          <a:blip r:embed="rId1"/>
          <a:stretch/>
        </p:blipFill>
        <p:spPr>
          <a:xfrm>
            <a:off x="900000" y="260280"/>
            <a:ext cx="7182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0104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Vulnerability of African Infrastructure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4200" y="1142640"/>
            <a:ext cx="3571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stu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on the vulnerability of African infrastructure to climate change in seven River basins in partnership with the World Bank is unde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egal, Volta, Ni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il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, Zambezi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ran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4214880" y="1500120"/>
            <a:ext cx="4157640" cy="4643640"/>
            <a:chOff x="4214880" y="1500120"/>
            <a:chExt cx="4157640" cy="4643640"/>
          </a:xfrm>
        </p:grpSpPr>
        <p:pic>
          <p:nvPicPr>
            <p:cNvPr id="196" name="Picture 2" descr=""/>
            <p:cNvPicPr/>
            <p:nvPr/>
          </p:nvPicPr>
          <p:blipFill>
            <a:blip r:embed="rId1"/>
            <a:srcRect l="28083" t="6505" r="4229" b="5228"/>
            <a:stretch/>
          </p:blipFill>
          <p:spPr>
            <a:xfrm>
              <a:off x="4214880" y="1500120"/>
              <a:ext cx="4157640" cy="46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6"/>
            <p:cNvSpPr/>
            <p:nvPr/>
          </p:nvSpPr>
          <p:spPr>
            <a:xfrm>
              <a:off x="5468040" y="3759840"/>
              <a:ext cx="76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7"/>
            <p:cNvSpPr/>
            <p:nvPr/>
          </p:nvSpPr>
          <p:spPr>
            <a:xfrm>
              <a:off x="5644080" y="4678920"/>
              <a:ext cx="97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ambe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8"/>
            <p:cNvSpPr/>
            <p:nvPr/>
          </p:nvSpPr>
          <p:spPr>
            <a:xfrm>
              <a:off x="4700520" y="305280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i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3581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Transoundary groundwater management 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57200"/>
            <a:ext cx="37148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-boundary groundwater study with Global Water Partnership to generate knowledge and information to support dialogues and policy making processes on ground water in Niger, Mali, Senegal and Burkina F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063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age 2" descr=""/>
          <p:cNvPicPr/>
          <p:nvPr/>
        </p:nvPicPr>
        <p:blipFill>
          <a:blip r:embed="rId1"/>
          <a:stretch/>
        </p:blipFill>
        <p:spPr>
          <a:xfrm>
            <a:off x="3929040" y="2071800"/>
            <a:ext cx="48722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723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Climate Change Impacts on Agriculture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320" y="1285560"/>
            <a:ext cx="37861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d a research study  on the impacts of climate change on agriculture in Kenya and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063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" descr=""/>
          <p:cNvPicPr/>
          <p:nvPr/>
        </p:nvPicPr>
        <p:blipFill>
          <a:blip r:embed="rId1"/>
          <a:stretch/>
        </p:blipFill>
        <p:spPr>
          <a:xfrm>
            <a:off x="4929120" y="1214280"/>
            <a:ext cx="3643560" cy="246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2"/>
          <a:stretch/>
        </p:blipFill>
        <p:spPr>
          <a:xfrm>
            <a:off x="4929120" y="4071960"/>
            <a:ext cx="3679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0" y="2421000"/>
            <a:ext cx="914400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Arial Rounded MT Bold"/>
              </a:rPr>
              <a:t>Thank you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Arial Rounded MT Bold"/>
              </a:rPr>
              <a:t>Merci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ClimDev-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AC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imdev-africa.or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2"/>
          <p:cNvGrpSpPr/>
          <p:nvPr/>
        </p:nvGrpSpPr>
        <p:grpSpPr>
          <a:xfrm>
            <a:off x="7380360" y="5013360"/>
            <a:ext cx="1569960" cy="1671480"/>
            <a:chOff x="7380360" y="5013360"/>
            <a:chExt cx="1569960" cy="1671480"/>
          </a:xfrm>
        </p:grpSpPr>
        <p:grpSp>
          <p:nvGrpSpPr>
            <p:cNvPr id="209" name="Group 13"/>
            <p:cNvGrpSpPr/>
            <p:nvPr/>
          </p:nvGrpSpPr>
          <p:grpSpPr>
            <a:xfrm>
              <a:off x="7380360" y="5013360"/>
              <a:ext cx="1569960" cy="1671480"/>
              <a:chOff x="7380360" y="5013360"/>
              <a:chExt cx="1569960" cy="1671480"/>
            </a:xfrm>
          </p:grpSpPr>
          <p:sp>
            <p:nvSpPr>
              <p:cNvPr id="210" name="Freeform 14"/>
              <p:cNvSpPr/>
              <p:nvPr/>
            </p:nvSpPr>
            <p:spPr>
              <a:xfrm>
                <a:off x="8734320" y="6178320"/>
                <a:ext cx="177840" cy="3106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310680"/>
                  <a:gd name="textAreaBottom" fmla="*/ 310680 h 310680"/>
                </a:gdLst>
                <a:ahLst/>
                <a:rect l="textAreaLeft" t="textAreaTop" r="textAreaRight" b="textAreaBottom"/>
                <a:pathLst>
                  <a:path w="225" h="392">
                    <a:moveTo>
                      <a:pt x="221" y="26"/>
                    </a:moveTo>
                    <a:lnTo>
                      <a:pt x="219" y="19"/>
                    </a:lnTo>
                    <a:lnTo>
                      <a:pt x="213" y="6"/>
                    </a:lnTo>
                    <a:lnTo>
                      <a:pt x="205" y="0"/>
                    </a:lnTo>
                    <a:lnTo>
                      <a:pt x="197" y="12"/>
                    </a:lnTo>
                    <a:lnTo>
                      <a:pt x="189" y="28"/>
                    </a:lnTo>
                    <a:lnTo>
                      <a:pt x="181" y="31"/>
                    </a:lnTo>
                    <a:lnTo>
                      <a:pt x="172" y="33"/>
                    </a:lnTo>
                    <a:lnTo>
                      <a:pt x="164" y="43"/>
                    </a:lnTo>
                    <a:lnTo>
                      <a:pt x="159" y="52"/>
                    </a:lnTo>
                    <a:lnTo>
                      <a:pt x="152" y="61"/>
                    </a:lnTo>
                    <a:lnTo>
                      <a:pt x="145" y="72"/>
                    </a:lnTo>
                    <a:lnTo>
                      <a:pt x="137" y="81"/>
                    </a:lnTo>
                    <a:lnTo>
                      <a:pt x="129" y="89"/>
                    </a:lnTo>
                    <a:lnTo>
                      <a:pt x="122" y="96"/>
                    </a:lnTo>
                    <a:lnTo>
                      <a:pt x="115" y="102"/>
                    </a:lnTo>
                    <a:lnTo>
                      <a:pt x="110" y="104"/>
                    </a:lnTo>
                    <a:lnTo>
                      <a:pt x="103" y="106"/>
                    </a:lnTo>
                    <a:lnTo>
                      <a:pt x="93" y="111"/>
                    </a:lnTo>
                    <a:lnTo>
                      <a:pt x="83" y="117"/>
                    </a:lnTo>
                    <a:lnTo>
                      <a:pt x="71" y="124"/>
                    </a:lnTo>
                    <a:lnTo>
                      <a:pt x="61" y="133"/>
                    </a:lnTo>
                    <a:lnTo>
                      <a:pt x="52" y="143"/>
                    </a:lnTo>
                    <a:lnTo>
                      <a:pt x="45" y="154"/>
                    </a:lnTo>
                    <a:lnTo>
                      <a:pt x="42" y="165"/>
                    </a:lnTo>
                    <a:lnTo>
                      <a:pt x="42" y="187"/>
                    </a:lnTo>
                    <a:lnTo>
                      <a:pt x="45" y="208"/>
                    </a:lnTo>
                    <a:lnTo>
                      <a:pt x="45" y="226"/>
                    </a:lnTo>
                    <a:lnTo>
                      <a:pt x="38" y="243"/>
                    </a:lnTo>
                    <a:lnTo>
                      <a:pt x="31" y="252"/>
                    </a:lnTo>
                    <a:lnTo>
                      <a:pt x="24" y="260"/>
                    </a:lnTo>
                    <a:lnTo>
                      <a:pt x="17" y="268"/>
                    </a:lnTo>
                    <a:lnTo>
                      <a:pt x="12" y="277"/>
                    </a:lnTo>
                    <a:lnTo>
                      <a:pt x="6" y="286"/>
                    </a:lnTo>
                    <a:lnTo>
                      <a:pt x="2" y="296"/>
                    </a:lnTo>
                    <a:lnTo>
                      <a:pt x="0" y="307"/>
                    </a:lnTo>
                    <a:lnTo>
                      <a:pt x="0" y="318"/>
                    </a:lnTo>
                    <a:lnTo>
                      <a:pt x="2" y="340"/>
                    </a:lnTo>
                    <a:lnTo>
                      <a:pt x="7" y="361"/>
                    </a:lnTo>
                    <a:lnTo>
                      <a:pt x="14" y="378"/>
                    </a:lnTo>
                    <a:lnTo>
                      <a:pt x="24" y="389"/>
                    </a:lnTo>
                    <a:lnTo>
                      <a:pt x="31" y="391"/>
                    </a:lnTo>
                    <a:lnTo>
                      <a:pt x="40" y="392"/>
                    </a:lnTo>
                    <a:lnTo>
                      <a:pt x="50" y="391"/>
                    </a:lnTo>
                    <a:lnTo>
                      <a:pt x="60" y="388"/>
                    </a:lnTo>
                    <a:lnTo>
                      <a:pt x="69" y="384"/>
                    </a:lnTo>
                    <a:lnTo>
                      <a:pt x="78" y="379"/>
                    </a:lnTo>
                    <a:lnTo>
                      <a:pt x="86" y="375"/>
                    </a:lnTo>
                    <a:lnTo>
                      <a:pt x="92" y="369"/>
                    </a:lnTo>
                    <a:lnTo>
                      <a:pt x="98" y="361"/>
                    </a:lnTo>
                    <a:lnTo>
                      <a:pt x="104" y="348"/>
                    </a:lnTo>
                    <a:lnTo>
                      <a:pt x="110" y="332"/>
                    </a:lnTo>
                    <a:lnTo>
                      <a:pt x="116" y="315"/>
                    </a:lnTo>
                    <a:lnTo>
                      <a:pt x="122" y="296"/>
                    </a:lnTo>
                    <a:lnTo>
                      <a:pt x="128" y="279"/>
                    </a:lnTo>
                    <a:lnTo>
                      <a:pt x="134" y="265"/>
                    </a:lnTo>
                    <a:lnTo>
                      <a:pt x="139" y="254"/>
                    </a:lnTo>
                    <a:lnTo>
                      <a:pt x="145" y="243"/>
                    </a:lnTo>
                    <a:lnTo>
                      <a:pt x="153" y="231"/>
                    </a:lnTo>
                    <a:lnTo>
                      <a:pt x="163" y="216"/>
                    </a:lnTo>
                    <a:lnTo>
                      <a:pt x="172" y="200"/>
                    </a:lnTo>
                    <a:lnTo>
                      <a:pt x="180" y="184"/>
                    </a:lnTo>
                    <a:lnTo>
                      <a:pt x="187" y="169"/>
                    </a:lnTo>
                    <a:lnTo>
                      <a:pt x="191" y="154"/>
                    </a:lnTo>
                    <a:lnTo>
                      <a:pt x="194" y="141"/>
                    </a:lnTo>
                    <a:lnTo>
                      <a:pt x="195" y="124"/>
                    </a:lnTo>
                    <a:lnTo>
                      <a:pt x="197" y="113"/>
                    </a:lnTo>
                    <a:lnTo>
                      <a:pt x="203" y="111"/>
                    </a:lnTo>
                    <a:lnTo>
                      <a:pt x="211" y="114"/>
                    </a:lnTo>
                    <a:lnTo>
                      <a:pt x="219" y="114"/>
                    </a:lnTo>
                    <a:lnTo>
                      <a:pt x="224" y="107"/>
                    </a:lnTo>
                    <a:lnTo>
                      <a:pt x="225" y="95"/>
                    </a:lnTo>
                    <a:lnTo>
                      <a:pt x="221" y="80"/>
                    </a:lnTo>
                    <a:lnTo>
                      <a:pt x="220" y="76"/>
                    </a:lnTo>
                    <a:lnTo>
                      <a:pt x="219" y="67"/>
                    </a:lnTo>
                    <a:lnTo>
                      <a:pt x="218" y="57"/>
                    </a:lnTo>
                    <a:lnTo>
                      <a:pt x="219" y="49"/>
                    </a:lnTo>
                    <a:lnTo>
                      <a:pt x="221" y="44"/>
                    </a:lnTo>
                    <a:lnTo>
                      <a:pt x="222" y="38"/>
                    </a:lnTo>
                    <a:lnTo>
                      <a:pt x="222" y="33"/>
                    </a:lnTo>
                    <a:lnTo>
                      <a:pt x="221" y="2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7380360" y="5013360"/>
                <a:ext cx="1569960" cy="1671480"/>
              </a:xfrm>
              <a:custGeom>
                <a:avLst/>
                <a:gdLst>
                  <a:gd name="textAreaLeft" fmla="*/ 0 w 1569960"/>
                  <a:gd name="textAreaRight" fmla="*/ 1570320 w 1569960"/>
                  <a:gd name="textAreaTop" fmla="*/ 0 h 1671480"/>
                  <a:gd name="textAreaBottom" fmla="*/ 1671840 h 1671480"/>
                </a:gdLst>
                <a:ahLst/>
                <a:rect l="textAreaLeft" t="textAreaTop" r="textAreaRight" b="textAreaBottom"/>
                <a:pathLst>
                  <a:path w="1979" h="2106">
                    <a:moveTo>
                      <a:pt x="1008" y="2034"/>
                    </a:moveTo>
                    <a:lnTo>
                      <a:pt x="1006" y="2043"/>
                    </a:lnTo>
                    <a:lnTo>
                      <a:pt x="1005" y="2064"/>
                    </a:lnTo>
                    <a:lnTo>
                      <a:pt x="1010" y="2087"/>
                    </a:lnTo>
                    <a:lnTo>
                      <a:pt x="1025" y="2102"/>
                    </a:lnTo>
                    <a:lnTo>
                      <a:pt x="1035" y="2104"/>
                    </a:lnTo>
                    <a:lnTo>
                      <a:pt x="1046" y="2106"/>
                    </a:lnTo>
                    <a:lnTo>
                      <a:pt x="1057" y="2103"/>
                    </a:lnTo>
                    <a:lnTo>
                      <a:pt x="1069" y="2101"/>
                    </a:lnTo>
                    <a:lnTo>
                      <a:pt x="1080" y="2098"/>
                    </a:lnTo>
                    <a:lnTo>
                      <a:pt x="1093" y="2094"/>
                    </a:lnTo>
                    <a:lnTo>
                      <a:pt x="1107" y="2092"/>
                    </a:lnTo>
                    <a:lnTo>
                      <a:pt x="1122" y="2091"/>
                    </a:lnTo>
                    <a:lnTo>
                      <a:pt x="1137" y="2092"/>
                    </a:lnTo>
                    <a:lnTo>
                      <a:pt x="1150" y="2093"/>
                    </a:lnTo>
                    <a:lnTo>
                      <a:pt x="1165" y="2094"/>
                    </a:lnTo>
                    <a:lnTo>
                      <a:pt x="1179" y="2095"/>
                    </a:lnTo>
                    <a:lnTo>
                      <a:pt x="1194" y="2094"/>
                    </a:lnTo>
                    <a:lnTo>
                      <a:pt x="1209" y="2091"/>
                    </a:lnTo>
                    <a:lnTo>
                      <a:pt x="1224" y="2084"/>
                    </a:lnTo>
                    <a:lnTo>
                      <a:pt x="1241" y="2073"/>
                    </a:lnTo>
                    <a:lnTo>
                      <a:pt x="1259" y="2061"/>
                    </a:lnTo>
                    <a:lnTo>
                      <a:pt x="1275" y="2050"/>
                    </a:lnTo>
                    <a:lnTo>
                      <a:pt x="1291" y="2040"/>
                    </a:lnTo>
                    <a:lnTo>
                      <a:pt x="1306" y="2030"/>
                    </a:lnTo>
                    <a:lnTo>
                      <a:pt x="1321" y="2019"/>
                    </a:lnTo>
                    <a:lnTo>
                      <a:pt x="1335" y="2009"/>
                    </a:lnTo>
                    <a:lnTo>
                      <a:pt x="1349" y="1996"/>
                    </a:lnTo>
                    <a:lnTo>
                      <a:pt x="1361" y="1982"/>
                    </a:lnTo>
                    <a:lnTo>
                      <a:pt x="1374" y="1968"/>
                    </a:lnTo>
                    <a:lnTo>
                      <a:pt x="1384" y="1957"/>
                    </a:lnTo>
                    <a:lnTo>
                      <a:pt x="1392" y="1947"/>
                    </a:lnTo>
                    <a:lnTo>
                      <a:pt x="1400" y="1937"/>
                    </a:lnTo>
                    <a:lnTo>
                      <a:pt x="1406" y="1929"/>
                    </a:lnTo>
                    <a:lnTo>
                      <a:pt x="1410" y="1921"/>
                    </a:lnTo>
                    <a:lnTo>
                      <a:pt x="1412" y="1912"/>
                    </a:lnTo>
                    <a:lnTo>
                      <a:pt x="1413" y="1902"/>
                    </a:lnTo>
                    <a:lnTo>
                      <a:pt x="1414" y="1892"/>
                    </a:lnTo>
                    <a:lnTo>
                      <a:pt x="1417" y="1883"/>
                    </a:lnTo>
                    <a:lnTo>
                      <a:pt x="1420" y="1876"/>
                    </a:lnTo>
                    <a:lnTo>
                      <a:pt x="1426" y="1870"/>
                    </a:lnTo>
                    <a:lnTo>
                      <a:pt x="1432" y="1865"/>
                    </a:lnTo>
                    <a:lnTo>
                      <a:pt x="1440" y="1860"/>
                    </a:lnTo>
                    <a:lnTo>
                      <a:pt x="1449" y="1856"/>
                    </a:lnTo>
                    <a:lnTo>
                      <a:pt x="1459" y="1851"/>
                    </a:lnTo>
                    <a:lnTo>
                      <a:pt x="1470" y="1845"/>
                    </a:lnTo>
                    <a:lnTo>
                      <a:pt x="1481" y="1838"/>
                    </a:lnTo>
                    <a:lnTo>
                      <a:pt x="1492" y="1829"/>
                    </a:lnTo>
                    <a:lnTo>
                      <a:pt x="1502" y="1817"/>
                    </a:lnTo>
                    <a:lnTo>
                      <a:pt x="1509" y="1805"/>
                    </a:lnTo>
                    <a:lnTo>
                      <a:pt x="1513" y="1791"/>
                    </a:lnTo>
                    <a:lnTo>
                      <a:pt x="1513" y="1776"/>
                    </a:lnTo>
                    <a:lnTo>
                      <a:pt x="1510" y="1759"/>
                    </a:lnTo>
                    <a:lnTo>
                      <a:pt x="1505" y="1743"/>
                    </a:lnTo>
                    <a:lnTo>
                      <a:pt x="1504" y="1730"/>
                    </a:lnTo>
                    <a:lnTo>
                      <a:pt x="1505" y="1718"/>
                    </a:lnTo>
                    <a:lnTo>
                      <a:pt x="1510" y="1708"/>
                    </a:lnTo>
                    <a:lnTo>
                      <a:pt x="1517" y="1699"/>
                    </a:lnTo>
                    <a:lnTo>
                      <a:pt x="1525" y="1691"/>
                    </a:lnTo>
                    <a:lnTo>
                      <a:pt x="1534" y="1681"/>
                    </a:lnTo>
                    <a:lnTo>
                      <a:pt x="1545" y="1673"/>
                    </a:lnTo>
                    <a:lnTo>
                      <a:pt x="1557" y="1664"/>
                    </a:lnTo>
                    <a:lnTo>
                      <a:pt x="1575" y="1655"/>
                    </a:lnTo>
                    <a:lnTo>
                      <a:pt x="1594" y="1645"/>
                    </a:lnTo>
                    <a:lnTo>
                      <a:pt x="1614" y="1634"/>
                    </a:lnTo>
                    <a:lnTo>
                      <a:pt x="1633" y="1623"/>
                    </a:lnTo>
                    <a:lnTo>
                      <a:pt x="1649" y="1610"/>
                    </a:lnTo>
                    <a:lnTo>
                      <a:pt x="1662" y="1596"/>
                    </a:lnTo>
                    <a:lnTo>
                      <a:pt x="1670" y="1582"/>
                    </a:lnTo>
                    <a:lnTo>
                      <a:pt x="1679" y="1545"/>
                    </a:lnTo>
                    <a:lnTo>
                      <a:pt x="1687" y="1502"/>
                    </a:lnTo>
                    <a:lnTo>
                      <a:pt x="1691" y="1459"/>
                    </a:lnTo>
                    <a:lnTo>
                      <a:pt x="1687" y="1422"/>
                    </a:lnTo>
                    <a:lnTo>
                      <a:pt x="1681" y="1395"/>
                    </a:lnTo>
                    <a:lnTo>
                      <a:pt x="1677" y="1373"/>
                    </a:lnTo>
                    <a:lnTo>
                      <a:pt x="1674" y="1353"/>
                    </a:lnTo>
                    <a:lnTo>
                      <a:pt x="1670" y="1336"/>
                    </a:lnTo>
                    <a:lnTo>
                      <a:pt x="1668" y="1325"/>
                    </a:lnTo>
                    <a:lnTo>
                      <a:pt x="1664" y="1310"/>
                    </a:lnTo>
                    <a:lnTo>
                      <a:pt x="1662" y="1293"/>
                    </a:lnTo>
                    <a:lnTo>
                      <a:pt x="1661" y="1274"/>
                    </a:lnTo>
                    <a:lnTo>
                      <a:pt x="1661" y="1254"/>
                    </a:lnTo>
                    <a:lnTo>
                      <a:pt x="1664" y="1234"/>
                    </a:lnTo>
                    <a:lnTo>
                      <a:pt x="1671" y="1215"/>
                    </a:lnTo>
                    <a:lnTo>
                      <a:pt x="1682" y="1199"/>
                    </a:lnTo>
                    <a:lnTo>
                      <a:pt x="1694" y="1184"/>
                    </a:lnTo>
                    <a:lnTo>
                      <a:pt x="1707" y="1170"/>
                    </a:lnTo>
                    <a:lnTo>
                      <a:pt x="1720" y="1156"/>
                    </a:lnTo>
                    <a:lnTo>
                      <a:pt x="1732" y="1142"/>
                    </a:lnTo>
                    <a:lnTo>
                      <a:pt x="1745" y="1128"/>
                    </a:lnTo>
                    <a:lnTo>
                      <a:pt x="1757" y="1113"/>
                    </a:lnTo>
                    <a:lnTo>
                      <a:pt x="1768" y="1099"/>
                    </a:lnTo>
                    <a:lnTo>
                      <a:pt x="1778" y="1084"/>
                    </a:lnTo>
                    <a:lnTo>
                      <a:pt x="1790" y="1071"/>
                    </a:lnTo>
                    <a:lnTo>
                      <a:pt x="1803" y="1057"/>
                    </a:lnTo>
                    <a:lnTo>
                      <a:pt x="1817" y="1044"/>
                    </a:lnTo>
                    <a:lnTo>
                      <a:pt x="1831" y="1030"/>
                    </a:lnTo>
                    <a:lnTo>
                      <a:pt x="1848" y="1015"/>
                    </a:lnTo>
                    <a:lnTo>
                      <a:pt x="1863" y="998"/>
                    </a:lnTo>
                    <a:lnTo>
                      <a:pt x="1879" y="978"/>
                    </a:lnTo>
                    <a:lnTo>
                      <a:pt x="1894" y="954"/>
                    </a:lnTo>
                    <a:lnTo>
                      <a:pt x="1909" y="928"/>
                    </a:lnTo>
                    <a:lnTo>
                      <a:pt x="1924" y="900"/>
                    </a:lnTo>
                    <a:lnTo>
                      <a:pt x="1938" y="872"/>
                    </a:lnTo>
                    <a:lnTo>
                      <a:pt x="1951" y="845"/>
                    </a:lnTo>
                    <a:lnTo>
                      <a:pt x="1963" y="818"/>
                    </a:lnTo>
                    <a:lnTo>
                      <a:pt x="1971" y="795"/>
                    </a:lnTo>
                    <a:lnTo>
                      <a:pt x="1977" y="776"/>
                    </a:lnTo>
                    <a:lnTo>
                      <a:pt x="1979" y="761"/>
                    </a:lnTo>
                    <a:lnTo>
                      <a:pt x="1979" y="748"/>
                    </a:lnTo>
                    <a:lnTo>
                      <a:pt x="1977" y="738"/>
                    </a:lnTo>
                    <a:lnTo>
                      <a:pt x="1973" y="728"/>
                    </a:lnTo>
                    <a:lnTo>
                      <a:pt x="1969" y="721"/>
                    </a:lnTo>
                    <a:lnTo>
                      <a:pt x="1963" y="717"/>
                    </a:lnTo>
                    <a:lnTo>
                      <a:pt x="1955" y="715"/>
                    </a:lnTo>
                    <a:lnTo>
                      <a:pt x="1944" y="716"/>
                    </a:lnTo>
                    <a:lnTo>
                      <a:pt x="1933" y="720"/>
                    </a:lnTo>
                    <a:lnTo>
                      <a:pt x="1920" y="727"/>
                    </a:lnTo>
                    <a:lnTo>
                      <a:pt x="1908" y="734"/>
                    </a:lnTo>
                    <a:lnTo>
                      <a:pt x="1894" y="741"/>
                    </a:lnTo>
                    <a:lnTo>
                      <a:pt x="1880" y="748"/>
                    </a:lnTo>
                    <a:lnTo>
                      <a:pt x="1865" y="753"/>
                    </a:lnTo>
                    <a:lnTo>
                      <a:pt x="1849" y="756"/>
                    </a:lnTo>
                    <a:lnTo>
                      <a:pt x="1831" y="757"/>
                    </a:lnTo>
                    <a:lnTo>
                      <a:pt x="1813" y="755"/>
                    </a:lnTo>
                    <a:lnTo>
                      <a:pt x="1796" y="751"/>
                    </a:lnTo>
                    <a:lnTo>
                      <a:pt x="1783" y="749"/>
                    </a:lnTo>
                    <a:lnTo>
                      <a:pt x="1774" y="747"/>
                    </a:lnTo>
                    <a:lnTo>
                      <a:pt x="1767" y="745"/>
                    </a:lnTo>
                    <a:lnTo>
                      <a:pt x="1762" y="741"/>
                    </a:lnTo>
                    <a:lnTo>
                      <a:pt x="1760" y="736"/>
                    </a:lnTo>
                    <a:lnTo>
                      <a:pt x="1758" y="730"/>
                    </a:lnTo>
                    <a:lnTo>
                      <a:pt x="1757" y="720"/>
                    </a:lnTo>
                    <a:lnTo>
                      <a:pt x="1754" y="711"/>
                    </a:lnTo>
                    <a:lnTo>
                      <a:pt x="1753" y="703"/>
                    </a:lnTo>
                    <a:lnTo>
                      <a:pt x="1752" y="696"/>
                    </a:lnTo>
                    <a:lnTo>
                      <a:pt x="1749" y="690"/>
                    </a:lnTo>
                    <a:lnTo>
                      <a:pt x="1744" y="683"/>
                    </a:lnTo>
                    <a:lnTo>
                      <a:pt x="1736" y="675"/>
                    </a:lnTo>
                    <a:lnTo>
                      <a:pt x="1725" y="665"/>
                    </a:lnTo>
                    <a:lnTo>
                      <a:pt x="1710" y="651"/>
                    </a:lnTo>
                    <a:lnTo>
                      <a:pt x="1693" y="636"/>
                    </a:lnTo>
                    <a:lnTo>
                      <a:pt x="1677" y="622"/>
                    </a:lnTo>
                    <a:lnTo>
                      <a:pt x="1662" y="607"/>
                    </a:lnTo>
                    <a:lnTo>
                      <a:pt x="1649" y="594"/>
                    </a:lnTo>
                    <a:lnTo>
                      <a:pt x="1638" y="581"/>
                    </a:lnTo>
                    <a:lnTo>
                      <a:pt x="1629" y="569"/>
                    </a:lnTo>
                    <a:lnTo>
                      <a:pt x="1622" y="558"/>
                    </a:lnTo>
                    <a:lnTo>
                      <a:pt x="1618" y="549"/>
                    </a:lnTo>
                    <a:lnTo>
                      <a:pt x="1615" y="541"/>
                    </a:lnTo>
                    <a:lnTo>
                      <a:pt x="1608" y="532"/>
                    </a:lnTo>
                    <a:lnTo>
                      <a:pt x="1600" y="526"/>
                    </a:lnTo>
                    <a:lnTo>
                      <a:pt x="1591" y="519"/>
                    </a:lnTo>
                    <a:lnTo>
                      <a:pt x="1581" y="511"/>
                    </a:lnTo>
                    <a:lnTo>
                      <a:pt x="1572" y="501"/>
                    </a:lnTo>
                    <a:lnTo>
                      <a:pt x="1565" y="491"/>
                    </a:lnTo>
                    <a:lnTo>
                      <a:pt x="1562" y="479"/>
                    </a:lnTo>
                    <a:lnTo>
                      <a:pt x="1560" y="467"/>
                    </a:lnTo>
                    <a:lnTo>
                      <a:pt x="1557" y="455"/>
                    </a:lnTo>
                    <a:lnTo>
                      <a:pt x="1555" y="444"/>
                    </a:lnTo>
                    <a:lnTo>
                      <a:pt x="1551" y="432"/>
                    </a:lnTo>
                    <a:lnTo>
                      <a:pt x="1547" y="421"/>
                    </a:lnTo>
                    <a:lnTo>
                      <a:pt x="1541" y="410"/>
                    </a:lnTo>
                    <a:lnTo>
                      <a:pt x="1535" y="399"/>
                    </a:lnTo>
                    <a:lnTo>
                      <a:pt x="1527" y="388"/>
                    </a:lnTo>
                    <a:lnTo>
                      <a:pt x="1517" y="376"/>
                    </a:lnTo>
                    <a:lnTo>
                      <a:pt x="1504" y="358"/>
                    </a:lnTo>
                    <a:lnTo>
                      <a:pt x="1489" y="340"/>
                    </a:lnTo>
                    <a:lnTo>
                      <a:pt x="1474" y="320"/>
                    </a:lnTo>
                    <a:lnTo>
                      <a:pt x="1460" y="301"/>
                    </a:lnTo>
                    <a:lnTo>
                      <a:pt x="1448" y="284"/>
                    </a:lnTo>
                    <a:lnTo>
                      <a:pt x="1437" y="269"/>
                    </a:lnTo>
                    <a:lnTo>
                      <a:pt x="1430" y="257"/>
                    </a:lnTo>
                    <a:lnTo>
                      <a:pt x="1428" y="250"/>
                    </a:lnTo>
                    <a:lnTo>
                      <a:pt x="1430" y="248"/>
                    </a:lnTo>
                    <a:lnTo>
                      <a:pt x="1435" y="248"/>
                    </a:lnTo>
                    <a:lnTo>
                      <a:pt x="1441" y="248"/>
                    </a:lnTo>
                    <a:lnTo>
                      <a:pt x="1447" y="249"/>
                    </a:lnTo>
                    <a:lnTo>
                      <a:pt x="1453" y="249"/>
                    </a:lnTo>
                    <a:lnTo>
                      <a:pt x="1458" y="247"/>
                    </a:lnTo>
                    <a:lnTo>
                      <a:pt x="1459" y="240"/>
                    </a:lnTo>
                    <a:lnTo>
                      <a:pt x="1459" y="227"/>
                    </a:lnTo>
                    <a:lnTo>
                      <a:pt x="1457" y="216"/>
                    </a:lnTo>
                    <a:lnTo>
                      <a:pt x="1456" y="205"/>
                    </a:lnTo>
                    <a:lnTo>
                      <a:pt x="1453" y="196"/>
                    </a:lnTo>
                    <a:lnTo>
                      <a:pt x="1450" y="182"/>
                    </a:lnTo>
                    <a:lnTo>
                      <a:pt x="1444" y="168"/>
                    </a:lnTo>
                    <a:lnTo>
                      <a:pt x="1440" y="158"/>
                    </a:lnTo>
                    <a:lnTo>
                      <a:pt x="1437" y="153"/>
                    </a:lnTo>
                    <a:lnTo>
                      <a:pt x="1437" y="154"/>
                    </a:lnTo>
                    <a:lnTo>
                      <a:pt x="1435" y="157"/>
                    </a:lnTo>
                    <a:lnTo>
                      <a:pt x="1433" y="160"/>
                    </a:lnTo>
                    <a:lnTo>
                      <a:pt x="1428" y="163"/>
                    </a:lnTo>
                    <a:lnTo>
                      <a:pt x="1422" y="166"/>
                    </a:lnTo>
                    <a:lnTo>
                      <a:pt x="1415" y="168"/>
                    </a:lnTo>
                    <a:lnTo>
                      <a:pt x="1406" y="168"/>
                    </a:lnTo>
                    <a:lnTo>
                      <a:pt x="1396" y="166"/>
                    </a:lnTo>
                    <a:lnTo>
                      <a:pt x="1381" y="161"/>
                    </a:lnTo>
                    <a:lnTo>
                      <a:pt x="1367" y="159"/>
                    </a:lnTo>
                    <a:lnTo>
                      <a:pt x="1354" y="157"/>
                    </a:lnTo>
                    <a:lnTo>
                      <a:pt x="1342" y="156"/>
                    </a:lnTo>
                    <a:lnTo>
                      <a:pt x="1331" y="156"/>
                    </a:lnTo>
                    <a:lnTo>
                      <a:pt x="1321" y="157"/>
                    </a:lnTo>
                    <a:lnTo>
                      <a:pt x="1312" y="158"/>
                    </a:lnTo>
                    <a:lnTo>
                      <a:pt x="1305" y="160"/>
                    </a:lnTo>
                    <a:lnTo>
                      <a:pt x="1298" y="163"/>
                    </a:lnTo>
                    <a:lnTo>
                      <a:pt x="1291" y="164"/>
                    </a:lnTo>
                    <a:lnTo>
                      <a:pt x="1283" y="164"/>
                    </a:lnTo>
                    <a:lnTo>
                      <a:pt x="1274" y="164"/>
                    </a:lnTo>
                    <a:lnTo>
                      <a:pt x="1265" y="163"/>
                    </a:lnTo>
                    <a:lnTo>
                      <a:pt x="1254" y="161"/>
                    </a:lnTo>
                    <a:lnTo>
                      <a:pt x="1243" y="158"/>
                    </a:lnTo>
                    <a:lnTo>
                      <a:pt x="1230" y="154"/>
                    </a:lnTo>
                    <a:lnTo>
                      <a:pt x="1216" y="150"/>
                    </a:lnTo>
                    <a:lnTo>
                      <a:pt x="1202" y="146"/>
                    </a:lnTo>
                    <a:lnTo>
                      <a:pt x="1188" y="143"/>
                    </a:lnTo>
                    <a:lnTo>
                      <a:pt x="1173" y="138"/>
                    </a:lnTo>
                    <a:lnTo>
                      <a:pt x="1160" y="134"/>
                    </a:lnTo>
                    <a:lnTo>
                      <a:pt x="1146" y="128"/>
                    </a:lnTo>
                    <a:lnTo>
                      <a:pt x="1133" y="122"/>
                    </a:lnTo>
                    <a:lnTo>
                      <a:pt x="1122" y="114"/>
                    </a:lnTo>
                    <a:lnTo>
                      <a:pt x="1111" y="108"/>
                    </a:lnTo>
                    <a:lnTo>
                      <a:pt x="1101" y="107"/>
                    </a:lnTo>
                    <a:lnTo>
                      <a:pt x="1090" y="109"/>
                    </a:lnTo>
                    <a:lnTo>
                      <a:pt x="1082" y="114"/>
                    </a:lnTo>
                    <a:lnTo>
                      <a:pt x="1074" y="120"/>
                    </a:lnTo>
                    <a:lnTo>
                      <a:pt x="1069" y="126"/>
                    </a:lnTo>
                    <a:lnTo>
                      <a:pt x="1065" y="130"/>
                    </a:lnTo>
                    <a:lnTo>
                      <a:pt x="1064" y="131"/>
                    </a:lnTo>
                    <a:lnTo>
                      <a:pt x="1067" y="139"/>
                    </a:lnTo>
                    <a:lnTo>
                      <a:pt x="1072" y="157"/>
                    </a:lnTo>
                    <a:lnTo>
                      <a:pt x="1071" y="175"/>
                    </a:lnTo>
                    <a:lnTo>
                      <a:pt x="1058" y="183"/>
                    </a:lnTo>
                    <a:lnTo>
                      <a:pt x="1048" y="182"/>
                    </a:lnTo>
                    <a:lnTo>
                      <a:pt x="1036" y="180"/>
                    </a:lnTo>
                    <a:lnTo>
                      <a:pt x="1025" y="175"/>
                    </a:lnTo>
                    <a:lnTo>
                      <a:pt x="1013" y="171"/>
                    </a:lnTo>
                    <a:lnTo>
                      <a:pt x="1002" y="165"/>
                    </a:lnTo>
                    <a:lnTo>
                      <a:pt x="990" y="159"/>
                    </a:lnTo>
                    <a:lnTo>
                      <a:pt x="979" y="153"/>
                    </a:lnTo>
                    <a:lnTo>
                      <a:pt x="967" y="149"/>
                    </a:lnTo>
                    <a:lnTo>
                      <a:pt x="956" y="144"/>
                    </a:lnTo>
                    <a:lnTo>
                      <a:pt x="942" y="137"/>
                    </a:lnTo>
                    <a:lnTo>
                      <a:pt x="927" y="131"/>
                    </a:lnTo>
                    <a:lnTo>
                      <a:pt x="912" y="124"/>
                    </a:lnTo>
                    <a:lnTo>
                      <a:pt x="896" y="120"/>
                    </a:lnTo>
                    <a:lnTo>
                      <a:pt x="880" y="115"/>
                    </a:lnTo>
                    <a:lnTo>
                      <a:pt x="862" y="113"/>
                    </a:lnTo>
                    <a:lnTo>
                      <a:pt x="847" y="114"/>
                    </a:lnTo>
                    <a:lnTo>
                      <a:pt x="833" y="114"/>
                    </a:lnTo>
                    <a:lnTo>
                      <a:pt x="824" y="111"/>
                    </a:lnTo>
                    <a:lnTo>
                      <a:pt x="817" y="105"/>
                    </a:lnTo>
                    <a:lnTo>
                      <a:pt x="814" y="97"/>
                    </a:lnTo>
                    <a:lnTo>
                      <a:pt x="814" y="88"/>
                    </a:lnTo>
                    <a:lnTo>
                      <a:pt x="815" y="78"/>
                    </a:lnTo>
                    <a:lnTo>
                      <a:pt x="819" y="69"/>
                    </a:lnTo>
                    <a:lnTo>
                      <a:pt x="824" y="62"/>
                    </a:lnTo>
                    <a:lnTo>
                      <a:pt x="830" y="55"/>
                    </a:lnTo>
                    <a:lnTo>
                      <a:pt x="833" y="46"/>
                    </a:lnTo>
                    <a:lnTo>
                      <a:pt x="835" y="36"/>
                    </a:lnTo>
                    <a:lnTo>
                      <a:pt x="833" y="25"/>
                    </a:lnTo>
                    <a:lnTo>
                      <a:pt x="828" y="15"/>
                    </a:lnTo>
                    <a:lnTo>
                      <a:pt x="820" y="7"/>
                    </a:lnTo>
                    <a:lnTo>
                      <a:pt x="807" y="2"/>
                    </a:lnTo>
                    <a:lnTo>
                      <a:pt x="791" y="0"/>
                    </a:lnTo>
                    <a:lnTo>
                      <a:pt x="786" y="0"/>
                    </a:lnTo>
                    <a:lnTo>
                      <a:pt x="780" y="0"/>
                    </a:lnTo>
                    <a:lnTo>
                      <a:pt x="775" y="0"/>
                    </a:lnTo>
                    <a:lnTo>
                      <a:pt x="769" y="0"/>
                    </a:lnTo>
                    <a:lnTo>
                      <a:pt x="762" y="0"/>
                    </a:lnTo>
                    <a:lnTo>
                      <a:pt x="755" y="0"/>
                    </a:lnTo>
                    <a:lnTo>
                      <a:pt x="747" y="1"/>
                    </a:lnTo>
                    <a:lnTo>
                      <a:pt x="739" y="1"/>
                    </a:lnTo>
                    <a:lnTo>
                      <a:pt x="725" y="2"/>
                    </a:lnTo>
                    <a:lnTo>
                      <a:pt x="711" y="3"/>
                    </a:lnTo>
                    <a:lnTo>
                      <a:pt x="696" y="5"/>
                    </a:lnTo>
                    <a:lnTo>
                      <a:pt x="680" y="6"/>
                    </a:lnTo>
                    <a:lnTo>
                      <a:pt x="665" y="7"/>
                    </a:lnTo>
                    <a:lnTo>
                      <a:pt x="650" y="8"/>
                    </a:lnTo>
                    <a:lnTo>
                      <a:pt x="635" y="10"/>
                    </a:lnTo>
                    <a:lnTo>
                      <a:pt x="620" y="12"/>
                    </a:lnTo>
                    <a:lnTo>
                      <a:pt x="606" y="14"/>
                    </a:lnTo>
                    <a:lnTo>
                      <a:pt x="594" y="15"/>
                    </a:lnTo>
                    <a:lnTo>
                      <a:pt x="581" y="17"/>
                    </a:lnTo>
                    <a:lnTo>
                      <a:pt x="570" y="20"/>
                    </a:lnTo>
                    <a:lnTo>
                      <a:pt x="560" y="22"/>
                    </a:lnTo>
                    <a:lnTo>
                      <a:pt x="551" y="24"/>
                    </a:lnTo>
                    <a:lnTo>
                      <a:pt x="544" y="27"/>
                    </a:lnTo>
                    <a:lnTo>
                      <a:pt x="540" y="29"/>
                    </a:lnTo>
                    <a:lnTo>
                      <a:pt x="530" y="35"/>
                    </a:lnTo>
                    <a:lnTo>
                      <a:pt x="522" y="40"/>
                    </a:lnTo>
                    <a:lnTo>
                      <a:pt x="515" y="45"/>
                    </a:lnTo>
                    <a:lnTo>
                      <a:pt x="509" y="48"/>
                    </a:lnTo>
                    <a:lnTo>
                      <a:pt x="502" y="51"/>
                    </a:lnTo>
                    <a:lnTo>
                      <a:pt x="492" y="53"/>
                    </a:lnTo>
                    <a:lnTo>
                      <a:pt x="481" y="53"/>
                    </a:lnTo>
                    <a:lnTo>
                      <a:pt x="466" y="52"/>
                    </a:lnTo>
                    <a:lnTo>
                      <a:pt x="450" y="50"/>
                    </a:lnTo>
                    <a:lnTo>
                      <a:pt x="437" y="47"/>
                    </a:lnTo>
                    <a:lnTo>
                      <a:pt x="427" y="45"/>
                    </a:lnTo>
                    <a:lnTo>
                      <a:pt x="417" y="44"/>
                    </a:lnTo>
                    <a:lnTo>
                      <a:pt x="411" y="44"/>
                    </a:lnTo>
                    <a:lnTo>
                      <a:pt x="404" y="46"/>
                    </a:lnTo>
                    <a:lnTo>
                      <a:pt x="397" y="50"/>
                    </a:lnTo>
                    <a:lnTo>
                      <a:pt x="391" y="56"/>
                    </a:lnTo>
                    <a:lnTo>
                      <a:pt x="382" y="66"/>
                    </a:lnTo>
                    <a:lnTo>
                      <a:pt x="367" y="78"/>
                    </a:lnTo>
                    <a:lnTo>
                      <a:pt x="348" y="91"/>
                    </a:lnTo>
                    <a:lnTo>
                      <a:pt x="330" y="107"/>
                    </a:lnTo>
                    <a:lnTo>
                      <a:pt x="311" y="123"/>
                    </a:lnTo>
                    <a:lnTo>
                      <a:pt x="294" y="143"/>
                    </a:lnTo>
                    <a:lnTo>
                      <a:pt x="283" y="163"/>
                    </a:lnTo>
                    <a:lnTo>
                      <a:pt x="277" y="183"/>
                    </a:lnTo>
                    <a:lnTo>
                      <a:pt x="277" y="186"/>
                    </a:lnTo>
                    <a:lnTo>
                      <a:pt x="273" y="192"/>
                    </a:lnTo>
                    <a:lnTo>
                      <a:pt x="264" y="202"/>
                    </a:lnTo>
                    <a:lnTo>
                      <a:pt x="248" y="211"/>
                    </a:lnTo>
                    <a:lnTo>
                      <a:pt x="239" y="216"/>
                    </a:lnTo>
                    <a:lnTo>
                      <a:pt x="231" y="220"/>
                    </a:lnTo>
                    <a:lnTo>
                      <a:pt x="225" y="225"/>
                    </a:lnTo>
                    <a:lnTo>
                      <a:pt x="219" y="229"/>
                    </a:lnTo>
                    <a:lnTo>
                      <a:pt x="213" y="234"/>
                    </a:lnTo>
                    <a:lnTo>
                      <a:pt x="208" y="236"/>
                    </a:lnTo>
                    <a:lnTo>
                      <a:pt x="201" y="239"/>
                    </a:lnTo>
                    <a:lnTo>
                      <a:pt x="192" y="240"/>
                    </a:lnTo>
                    <a:lnTo>
                      <a:pt x="182" y="240"/>
                    </a:lnTo>
                    <a:lnTo>
                      <a:pt x="177" y="242"/>
                    </a:lnTo>
                    <a:lnTo>
                      <a:pt x="172" y="244"/>
                    </a:lnTo>
                    <a:lnTo>
                      <a:pt x="170" y="248"/>
                    </a:lnTo>
                    <a:lnTo>
                      <a:pt x="166" y="254"/>
                    </a:lnTo>
                    <a:lnTo>
                      <a:pt x="163" y="259"/>
                    </a:lnTo>
                    <a:lnTo>
                      <a:pt x="158" y="266"/>
                    </a:lnTo>
                    <a:lnTo>
                      <a:pt x="151" y="274"/>
                    </a:lnTo>
                    <a:lnTo>
                      <a:pt x="143" y="285"/>
                    </a:lnTo>
                    <a:lnTo>
                      <a:pt x="135" y="296"/>
                    </a:lnTo>
                    <a:lnTo>
                      <a:pt x="128" y="309"/>
                    </a:lnTo>
                    <a:lnTo>
                      <a:pt x="120" y="324"/>
                    </a:lnTo>
                    <a:lnTo>
                      <a:pt x="110" y="338"/>
                    </a:lnTo>
                    <a:lnTo>
                      <a:pt x="99" y="352"/>
                    </a:lnTo>
                    <a:lnTo>
                      <a:pt x="87" y="365"/>
                    </a:lnTo>
                    <a:lnTo>
                      <a:pt x="71" y="377"/>
                    </a:lnTo>
                    <a:lnTo>
                      <a:pt x="57" y="388"/>
                    </a:lnTo>
                    <a:lnTo>
                      <a:pt x="46" y="401"/>
                    </a:lnTo>
                    <a:lnTo>
                      <a:pt x="41" y="414"/>
                    </a:lnTo>
                    <a:lnTo>
                      <a:pt x="38" y="428"/>
                    </a:lnTo>
                    <a:lnTo>
                      <a:pt x="37" y="440"/>
                    </a:lnTo>
                    <a:lnTo>
                      <a:pt x="38" y="452"/>
                    </a:lnTo>
                    <a:lnTo>
                      <a:pt x="41" y="461"/>
                    </a:lnTo>
                    <a:lnTo>
                      <a:pt x="43" y="469"/>
                    </a:lnTo>
                    <a:lnTo>
                      <a:pt x="46" y="489"/>
                    </a:lnTo>
                    <a:lnTo>
                      <a:pt x="46" y="520"/>
                    </a:lnTo>
                    <a:lnTo>
                      <a:pt x="41" y="556"/>
                    </a:lnTo>
                    <a:lnTo>
                      <a:pt x="26" y="589"/>
                    </a:lnTo>
                    <a:lnTo>
                      <a:pt x="10" y="615"/>
                    </a:lnTo>
                    <a:lnTo>
                      <a:pt x="3" y="634"/>
                    </a:lnTo>
                    <a:lnTo>
                      <a:pt x="0" y="652"/>
                    </a:lnTo>
                    <a:lnTo>
                      <a:pt x="3" y="674"/>
                    </a:lnTo>
                    <a:lnTo>
                      <a:pt x="5" y="686"/>
                    </a:lnTo>
                    <a:lnTo>
                      <a:pt x="8" y="695"/>
                    </a:lnTo>
                    <a:lnTo>
                      <a:pt x="13" y="703"/>
                    </a:lnTo>
                    <a:lnTo>
                      <a:pt x="18" y="710"/>
                    </a:lnTo>
                    <a:lnTo>
                      <a:pt x="22" y="715"/>
                    </a:lnTo>
                    <a:lnTo>
                      <a:pt x="28" y="720"/>
                    </a:lnTo>
                    <a:lnTo>
                      <a:pt x="33" y="726"/>
                    </a:lnTo>
                    <a:lnTo>
                      <a:pt x="37" y="732"/>
                    </a:lnTo>
                    <a:lnTo>
                      <a:pt x="43" y="746"/>
                    </a:lnTo>
                    <a:lnTo>
                      <a:pt x="48" y="758"/>
                    </a:lnTo>
                    <a:lnTo>
                      <a:pt x="53" y="770"/>
                    </a:lnTo>
                    <a:lnTo>
                      <a:pt x="65" y="777"/>
                    </a:lnTo>
                    <a:lnTo>
                      <a:pt x="79" y="784"/>
                    </a:lnTo>
                    <a:lnTo>
                      <a:pt x="87" y="795"/>
                    </a:lnTo>
                    <a:lnTo>
                      <a:pt x="90" y="809"/>
                    </a:lnTo>
                    <a:lnTo>
                      <a:pt x="88" y="823"/>
                    </a:lnTo>
                    <a:lnTo>
                      <a:pt x="87" y="830"/>
                    </a:lnTo>
                    <a:lnTo>
                      <a:pt x="87" y="836"/>
                    </a:lnTo>
                    <a:lnTo>
                      <a:pt x="89" y="842"/>
                    </a:lnTo>
                    <a:lnTo>
                      <a:pt x="92" y="849"/>
                    </a:lnTo>
                    <a:lnTo>
                      <a:pt x="98" y="856"/>
                    </a:lnTo>
                    <a:lnTo>
                      <a:pt x="106" y="864"/>
                    </a:lnTo>
                    <a:lnTo>
                      <a:pt x="117" y="872"/>
                    </a:lnTo>
                    <a:lnTo>
                      <a:pt x="128" y="881"/>
                    </a:lnTo>
                    <a:lnTo>
                      <a:pt x="141" y="889"/>
                    </a:lnTo>
                    <a:lnTo>
                      <a:pt x="151" y="897"/>
                    </a:lnTo>
                    <a:lnTo>
                      <a:pt x="160" y="904"/>
                    </a:lnTo>
                    <a:lnTo>
                      <a:pt x="170" y="912"/>
                    </a:lnTo>
                    <a:lnTo>
                      <a:pt x="178" y="919"/>
                    </a:lnTo>
                    <a:lnTo>
                      <a:pt x="186" y="927"/>
                    </a:lnTo>
                    <a:lnTo>
                      <a:pt x="194" y="935"/>
                    </a:lnTo>
                    <a:lnTo>
                      <a:pt x="202" y="943"/>
                    </a:lnTo>
                    <a:lnTo>
                      <a:pt x="212" y="950"/>
                    </a:lnTo>
                    <a:lnTo>
                      <a:pt x="225" y="952"/>
                    </a:lnTo>
                    <a:lnTo>
                      <a:pt x="241" y="953"/>
                    </a:lnTo>
                    <a:lnTo>
                      <a:pt x="257" y="951"/>
                    </a:lnTo>
                    <a:lnTo>
                      <a:pt x="272" y="947"/>
                    </a:lnTo>
                    <a:lnTo>
                      <a:pt x="288" y="944"/>
                    </a:lnTo>
                    <a:lnTo>
                      <a:pt x="301" y="939"/>
                    </a:lnTo>
                    <a:lnTo>
                      <a:pt x="311" y="937"/>
                    </a:lnTo>
                    <a:lnTo>
                      <a:pt x="320" y="935"/>
                    </a:lnTo>
                    <a:lnTo>
                      <a:pt x="329" y="932"/>
                    </a:lnTo>
                    <a:lnTo>
                      <a:pt x="337" y="931"/>
                    </a:lnTo>
                    <a:lnTo>
                      <a:pt x="346" y="930"/>
                    </a:lnTo>
                    <a:lnTo>
                      <a:pt x="354" y="930"/>
                    </a:lnTo>
                    <a:lnTo>
                      <a:pt x="362" y="931"/>
                    </a:lnTo>
                    <a:lnTo>
                      <a:pt x="371" y="934"/>
                    </a:lnTo>
                    <a:lnTo>
                      <a:pt x="379" y="937"/>
                    </a:lnTo>
                    <a:lnTo>
                      <a:pt x="389" y="940"/>
                    </a:lnTo>
                    <a:lnTo>
                      <a:pt x="398" y="940"/>
                    </a:lnTo>
                    <a:lnTo>
                      <a:pt x="408" y="939"/>
                    </a:lnTo>
                    <a:lnTo>
                      <a:pt x="419" y="937"/>
                    </a:lnTo>
                    <a:lnTo>
                      <a:pt x="429" y="934"/>
                    </a:lnTo>
                    <a:lnTo>
                      <a:pt x="441" y="929"/>
                    </a:lnTo>
                    <a:lnTo>
                      <a:pt x="453" y="924"/>
                    </a:lnTo>
                    <a:lnTo>
                      <a:pt x="466" y="920"/>
                    </a:lnTo>
                    <a:lnTo>
                      <a:pt x="480" y="915"/>
                    </a:lnTo>
                    <a:lnTo>
                      <a:pt x="496" y="909"/>
                    </a:lnTo>
                    <a:lnTo>
                      <a:pt x="513" y="905"/>
                    </a:lnTo>
                    <a:lnTo>
                      <a:pt x="530" y="900"/>
                    </a:lnTo>
                    <a:lnTo>
                      <a:pt x="548" y="897"/>
                    </a:lnTo>
                    <a:lnTo>
                      <a:pt x="565" y="894"/>
                    </a:lnTo>
                    <a:lnTo>
                      <a:pt x="579" y="895"/>
                    </a:lnTo>
                    <a:lnTo>
                      <a:pt x="591" y="898"/>
                    </a:lnTo>
                    <a:lnTo>
                      <a:pt x="601" y="902"/>
                    </a:lnTo>
                    <a:lnTo>
                      <a:pt x="609" y="909"/>
                    </a:lnTo>
                    <a:lnTo>
                      <a:pt x="615" y="917"/>
                    </a:lnTo>
                    <a:lnTo>
                      <a:pt x="620" y="925"/>
                    </a:lnTo>
                    <a:lnTo>
                      <a:pt x="626" y="934"/>
                    </a:lnTo>
                    <a:lnTo>
                      <a:pt x="632" y="942"/>
                    </a:lnTo>
                    <a:lnTo>
                      <a:pt x="639" y="949"/>
                    </a:lnTo>
                    <a:lnTo>
                      <a:pt x="648" y="954"/>
                    </a:lnTo>
                    <a:lnTo>
                      <a:pt x="659" y="957"/>
                    </a:lnTo>
                    <a:lnTo>
                      <a:pt x="672" y="958"/>
                    </a:lnTo>
                    <a:lnTo>
                      <a:pt x="686" y="957"/>
                    </a:lnTo>
                    <a:lnTo>
                      <a:pt x="699" y="955"/>
                    </a:lnTo>
                    <a:lnTo>
                      <a:pt x="712" y="953"/>
                    </a:lnTo>
                    <a:lnTo>
                      <a:pt x="725" y="953"/>
                    </a:lnTo>
                    <a:lnTo>
                      <a:pt x="737" y="955"/>
                    </a:lnTo>
                    <a:lnTo>
                      <a:pt x="746" y="960"/>
                    </a:lnTo>
                    <a:lnTo>
                      <a:pt x="757" y="978"/>
                    </a:lnTo>
                    <a:lnTo>
                      <a:pt x="761" y="1004"/>
                    </a:lnTo>
                    <a:lnTo>
                      <a:pt x="759" y="1035"/>
                    </a:lnTo>
                    <a:lnTo>
                      <a:pt x="752" y="1067"/>
                    </a:lnTo>
                    <a:lnTo>
                      <a:pt x="744" y="1098"/>
                    </a:lnTo>
                    <a:lnTo>
                      <a:pt x="739" y="1121"/>
                    </a:lnTo>
                    <a:lnTo>
                      <a:pt x="742" y="1142"/>
                    </a:lnTo>
                    <a:lnTo>
                      <a:pt x="757" y="1159"/>
                    </a:lnTo>
                    <a:lnTo>
                      <a:pt x="769" y="1169"/>
                    </a:lnTo>
                    <a:lnTo>
                      <a:pt x="780" y="1178"/>
                    </a:lnTo>
                    <a:lnTo>
                      <a:pt x="793" y="1189"/>
                    </a:lnTo>
                    <a:lnTo>
                      <a:pt x="805" y="1200"/>
                    </a:lnTo>
                    <a:lnTo>
                      <a:pt x="816" y="1211"/>
                    </a:lnTo>
                    <a:lnTo>
                      <a:pt x="825" y="1223"/>
                    </a:lnTo>
                    <a:lnTo>
                      <a:pt x="832" y="1233"/>
                    </a:lnTo>
                    <a:lnTo>
                      <a:pt x="836" y="1245"/>
                    </a:lnTo>
                    <a:lnTo>
                      <a:pt x="839" y="1256"/>
                    </a:lnTo>
                    <a:lnTo>
                      <a:pt x="845" y="1271"/>
                    </a:lnTo>
                    <a:lnTo>
                      <a:pt x="851" y="1286"/>
                    </a:lnTo>
                    <a:lnTo>
                      <a:pt x="858" y="1302"/>
                    </a:lnTo>
                    <a:lnTo>
                      <a:pt x="865" y="1320"/>
                    </a:lnTo>
                    <a:lnTo>
                      <a:pt x="870" y="1336"/>
                    </a:lnTo>
                    <a:lnTo>
                      <a:pt x="875" y="1351"/>
                    </a:lnTo>
                    <a:lnTo>
                      <a:pt x="876" y="1365"/>
                    </a:lnTo>
                    <a:lnTo>
                      <a:pt x="878" y="1390"/>
                    </a:lnTo>
                    <a:lnTo>
                      <a:pt x="882" y="1413"/>
                    </a:lnTo>
                    <a:lnTo>
                      <a:pt x="885" y="1435"/>
                    </a:lnTo>
                    <a:lnTo>
                      <a:pt x="888" y="1457"/>
                    </a:lnTo>
                    <a:lnTo>
                      <a:pt x="885" y="1467"/>
                    </a:lnTo>
                    <a:lnTo>
                      <a:pt x="880" y="1477"/>
                    </a:lnTo>
                    <a:lnTo>
                      <a:pt x="872" y="1488"/>
                    </a:lnTo>
                    <a:lnTo>
                      <a:pt x="862" y="1501"/>
                    </a:lnTo>
                    <a:lnTo>
                      <a:pt x="852" y="1514"/>
                    </a:lnTo>
                    <a:lnTo>
                      <a:pt x="844" y="1531"/>
                    </a:lnTo>
                    <a:lnTo>
                      <a:pt x="838" y="1549"/>
                    </a:lnTo>
                    <a:lnTo>
                      <a:pt x="836" y="1571"/>
                    </a:lnTo>
                    <a:lnTo>
                      <a:pt x="838" y="1610"/>
                    </a:lnTo>
                    <a:lnTo>
                      <a:pt x="844" y="1638"/>
                    </a:lnTo>
                    <a:lnTo>
                      <a:pt x="853" y="1661"/>
                    </a:lnTo>
                    <a:lnTo>
                      <a:pt x="865" y="1685"/>
                    </a:lnTo>
                    <a:lnTo>
                      <a:pt x="872" y="1699"/>
                    </a:lnTo>
                    <a:lnTo>
                      <a:pt x="880" y="1714"/>
                    </a:lnTo>
                    <a:lnTo>
                      <a:pt x="887" y="1729"/>
                    </a:lnTo>
                    <a:lnTo>
                      <a:pt x="895" y="1744"/>
                    </a:lnTo>
                    <a:lnTo>
                      <a:pt x="901" y="1760"/>
                    </a:lnTo>
                    <a:lnTo>
                      <a:pt x="907" y="1774"/>
                    </a:lnTo>
                    <a:lnTo>
                      <a:pt x="912" y="1788"/>
                    </a:lnTo>
                    <a:lnTo>
                      <a:pt x="915" y="1799"/>
                    </a:lnTo>
                    <a:lnTo>
                      <a:pt x="916" y="1812"/>
                    </a:lnTo>
                    <a:lnTo>
                      <a:pt x="919" y="1829"/>
                    </a:lnTo>
                    <a:lnTo>
                      <a:pt x="920" y="1847"/>
                    </a:lnTo>
                    <a:lnTo>
                      <a:pt x="922" y="1867"/>
                    </a:lnTo>
                    <a:lnTo>
                      <a:pt x="926" y="1888"/>
                    </a:lnTo>
                    <a:lnTo>
                      <a:pt x="930" y="1906"/>
                    </a:lnTo>
                    <a:lnTo>
                      <a:pt x="938" y="1924"/>
                    </a:lnTo>
                    <a:lnTo>
                      <a:pt x="950" y="1936"/>
                    </a:lnTo>
                    <a:lnTo>
                      <a:pt x="963" y="1948"/>
                    </a:lnTo>
                    <a:lnTo>
                      <a:pt x="973" y="1962"/>
                    </a:lnTo>
                    <a:lnTo>
                      <a:pt x="982" y="1975"/>
                    </a:lnTo>
                    <a:lnTo>
                      <a:pt x="989" y="1989"/>
                    </a:lnTo>
                    <a:lnTo>
                      <a:pt x="996" y="2003"/>
                    </a:lnTo>
                    <a:lnTo>
                      <a:pt x="1001" y="2016"/>
                    </a:lnTo>
                    <a:lnTo>
                      <a:pt x="1005" y="2026"/>
                    </a:lnTo>
                    <a:lnTo>
                      <a:pt x="1008" y="203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16"/>
            <p:cNvSpPr/>
            <p:nvPr/>
          </p:nvSpPr>
          <p:spPr>
            <a:xfrm>
              <a:off x="7524720" y="5155920"/>
              <a:ext cx="11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ab606"/>
                  </a:solidFill>
                  <a:latin typeface="Arial Black"/>
                </a:rPr>
                <a:t>Climate Change 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 Narrow"/>
                </a:rPr>
                <a:t>Meets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13"/>
          <p:cNvSpPr/>
          <p:nvPr/>
        </p:nvSpPr>
        <p:spPr>
          <a:xfrm>
            <a:off x="552600" y="5661000"/>
            <a:ext cx="37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s://www.facebook.com/pages/ClimDev-Afri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4" descr=""/>
          <p:cNvPicPr/>
          <p:nvPr/>
        </p:nvPicPr>
        <p:blipFill>
          <a:blip r:embed="rId2"/>
          <a:stretch/>
        </p:blipFill>
        <p:spPr>
          <a:xfrm>
            <a:off x="0" y="5589720"/>
            <a:ext cx="360360" cy="3934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900000" y="602136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Dev-Africa Youtube Cha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"/>
          <p:cNvPicPr/>
          <p:nvPr/>
        </p:nvPicPr>
        <p:blipFill>
          <a:blip r:embed="rId3"/>
          <a:stretch/>
        </p:blipFill>
        <p:spPr>
          <a:xfrm>
            <a:off x="0" y="6021360"/>
            <a:ext cx="82692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"/>
          <p:cNvPicPr/>
          <p:nvPr/>
        </p:nvPicPr>
        <p:blipFill>
          <a:blip r:embed="rId4"/>
          <a:stretch/>
        </p:blipFill>
        <p:spPr>
          <a:xfrm>
            <a:off x="-6480" y="6400800"/>
            <a:ext cx="503280" cy="4572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0"/>
          <p:cNvSpPr/>
          <p:nvPr/>
        </p:nvSpPr>
        <p:spPr>
          <a:xfrm>
            <a:off x="539640" y="645336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itter: @ClimDev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1" descr="C:\Users\cmuraya\Documents\Stock photos\Logos\ClimDev-Africa logo with title 2014.jpg"/>
          <p:cNvPicPr/>
          <p:nvPr/>
        </p:nvPicPr>
        <p:blipFill>
          <a:blip r:embed="rId5"/>
          <a:stretch/>
        </p:blipFill>
        <p:spPr>
          <a:xfrm>
            <a:off x="900000" y="260280"/>
            <a:ext cx="7182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4:21:10Z</dcterms:created>
  <dc:creator>DELL780</dc:creator>
  <dc:description/>
  <dc:language>en-US</dc:language>
  <cp:lastModifiedBy>ndiaye</cp:lastModifiedBy>
  <dcterms:modified xsi:type="dcterms:W3CDTF">2014-05-07T08:37:40Z</dcterms:modified>
  <cp:revision>586</cp:revision>
  <dc:subject/>
  <dc:title>A C P˚C   Data and Information dire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0">
    <vt:lpwstr/>
  </property>
  <property fmtid="{D5CDD505-2E9C-101B-9397-08002B2CF9AE}" pid="3" name="ContentTypeId">
    <vt:lpwstr>0x010100496A3A3DC6BB7A4787E4563615FDC938</vt:lpwstr>
  </property>
  <property fmtid="{D5CDD505-2E9C-101B-9397-08002B2CF9AE}" pid="4" name="Document Type">
    <vt:lpwstr/>
  </property>
  <property fmtid="{D5CDD505-2E9C-101B-9397-08002B2CF9AE}" pid="5" name="Language">
    <vt:lpwstr>EN</vt:lpwstr>
  </property>
  <property fmtid="{D5CDD505-2E9C-101B-9397-08002B2CF9AE}" pid="6" name="Meeting">
    <vt:lpwstr/>
  </property>
  <property fmtid="{D5CDD505-2E9C-101B-9397-08002B2CF9AE}" pid="7" name="Sector">
    <vt:lpwstr/>
  </property>
  <property fmtid="{D5CDD505-2E9C-101B-9397-08002B2CF9AE}" pid="8" name="Website Status">
    <vt:lpwstr>Draft</vt:lpwstr>
  </property>
</Properties>
</file>